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FC1-F0CF-42CD-A1F8-2D3ACCB0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2779-3166-4E99-875D-10ED44F0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8007-BCF9-4629-A18F-5EC3E407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5C5B-58DD-4BAD-AD75-A1274AF0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94C-022A-4236-8ACF-D3AB0E90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6FA-3647-4BC9-8D11-D1C959F2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262-99FF-49BA-AD98-DB947793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B8B-D77A-436E-B29A-0330931F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E03E-485B-4A48-AD98-CAB27B8F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59E-52D2-41D1-B88B-F7C3A409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C669-8D2C-41D7-8286-6FB0E152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9BCE-FD25-49CA-AAA3-4A4A839A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8173-04D0-44D3-B1C6-8F7F60944F7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663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r. Aleksandra Radtke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Chair of Inorganic and Coordination Chemistry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Faculty of Chemistry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icolaus Copernicus University in Toruń, Poland</a:t>
            </a:r>
            <a:br>
              <a:rPr sz="1400"/>
            </a:b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no-implant Ltd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Toruń, Poland</a:t>
            </a:r>
            <a:br>
              <a:rPr sz="3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98520" y="3560760"/>
            <a:ext cx="84376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 u="sng">
                <a:solidFill>
                  <a:srgbClr val="000000"/>
                </a:solidFill>
                <a:uFillTx/>
                <a:latin typeface="Calibri"/>
              </a:rPr>
              <a:t>Expertise in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Modification of the titanium/titanium alloy implants surface with the use of chemical and physical methods, such as: chemical oxidation, electrochemical oxidation, thermal oxidation, in order to create optimal osseointegration condi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Synthesis of biocompatible materials on the base of titanium dioxide, possesing antibacterial proper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Production of thin films with the use of methods from the gas phase, such as chemical vapor deposition, atomic layer depos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Characterization of biomaterials and nanomaterials with the use of instrumental analysis (XRD, SEM, AFM, EDX, TEM, Raman spectroscopy, IR spectroscopy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Studies on the photoactivity of biomateria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1973160" cy="1439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5288040" y="44280"/>
            <a:ext cx="3531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 u="sng">
                <a:solidFill>
                  <a:srgbClr val="000000"/>
                </a:solidFill>
                <a:uFillTx/>
                <a:latin typeface="Calibri"/>
              </a:rPr>
              <a:t>Expected benefits and activities during participation in BIONECA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Share experience with the groups who works with the metallic implants surface modification in order to create the optimal biomaterial for the needs of: (a) neurology and (b) card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Share experience with the groups who works with the composite or hybrid materials in order to create the optimal biomaterial for the needs of: (a) neurology implants and (b) cardiology impla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Would like to learn from groups who are experienced in optimization of the biomaterial synthesis pathway  for the needs of: (a) neurology implants and (b) cardiology impla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Would like to share experience in 3D printing of impla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Would like to learn about and propose design of new biomaterials for combined application with stem cel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Would like to gather innovative combination of partners for new projects` applica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Foreseen maximum contribution: in WG1 and WG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9:39:55Z</dcterms:created>
  <dc:creator>Dinko Mitrečić</dc:creator>
  <dc:description/>
  <dc:language>en-US</dc:language>
  <cp:lastModifiedBy>Aleksandra Radtke</cp:lastModifiedBy>
  <dcterms:modified xsi:type="dcterms:W3CDTF">2017-04-04T08:03:22Z</dcterms:modified>
  <cp:revision>16</cp:revision>
  <dc:subject/>
  <dc:title>Prof. Dinko Mitrecic, MD, PhD Laboratory for Stem Cells, Croatian Institute for Brain Research University of Zagreb School of Medicine, Croatia</dc:title>
</cp:coreProperties>
</file>