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082-DB3D-41CE-8F3D-16C5C544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198-D1DD-4522-9A48-973EF801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C0C-5E83-401F-8678-0516AC3F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525-F0A8-4F7C-BE9D-F0CCA9A1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F35-7D49-46F8-A372-3F6C72BD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CB6-A502-419E-A2C9-D812F3F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40D-39A2-463F-A83F-532046FA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910-FCE1-4EEF-BDB3-B88561B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DEE-7658-4249-9549-CAB6AA2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819-2F35-4499-B8FB-08E49BCA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5F2-8ECF-4ECC-91EB-6B52224C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1FF-17E7-4B92-B43A-032ACDB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E6AF-DB8B-42FB-BA83-4BBB172C75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r. Aleksandra Radtk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hair of Inorganic and Coordination Chemistr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Faculty of Chemistr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icolaus Copernicus University in Toruń, Poland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no-implant Ltd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Toruń, Poland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98520" y="3560760"/>
            <a:ext cx="84376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rtise i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Modification of the titanium/titanium alloy implants surface with the use of chemical and physical methods, such as: chemical oxidation, electrochemical oxidation, thermal oxidation, in order to create optimal osseointegration condi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of biocompatible materials on the base of titanium dioxide, possesing antibacterial prop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Production of thin films with the use of methods from the gas phase, such as chemical vapor deposition, atomic layer deposi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Characterization of biomaterials and nanomaterials with the use of instrumental analysis (XRD, SEM, AFM, EDX, TEM, Raman spectroscopy, IR spectroscop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tudies on the photoactivity of biomateri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97316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5288040" y="44280"/>
            <a:ext cx="3531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cted benefits and activities during participation in BIONEC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metallic implants surface modification in order to create the optimal biomaterial for the needs of: (a) neurology and (b) card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composite or hybrid materials in order to create the optimal biomaterial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from groups who are experienced in optimization of the biomaterial synthesis pathway 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share experience in 3D printing of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about and propose design of new biomaterials for combined application with stem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gather innovative combination of partners for new projects` 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Foreseen maximum contribution: in WG1 and WG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9:39:55Z</dcterms:created>
  <dc:creator>Dinko Mitrečić</dc:creator>
  <dc:description/>
  <dc:language>en-US</dc:language>
  <cp:lastModifiedBy>Aleksandra Radtke</cp:lastModifiedBy>
  <dcterms:modified xsi:type="dcterms:W3CDTF">2017-04-04T08:03:22Z</dcterms:modified>
  <cp:revision>16</cp:revision>
  <dc:subject/>
  <dc:title>Prof. Dinko Mitrecic, MD, PhD Laboratory for Stem Cells, Croatian Institute for Brain Research University of Zagreb School of Medicine, Croatia</dc:title>
</cp:coreProperties>
</file>