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756-524A-40EA-B147-67C805D8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3A7-DAC6-4A03-AD0A-A1E39DAD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382-8A53-4DCC-BD1A-6A66B2F3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0AC-5908-459E-A48E-70ECF463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3BF2-04FD-4622-B406-9D14B7B2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CBF3-6051-45C8-82F9-D48663EF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546D-68DD-4A07-9193-D0115B76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D38B-FAF9-4192-BEFF-3BD2022E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1C50-96A0-46FF-A9B3-1B9D4DCE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1196-1682-48C9-A67B-7D995EA4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9B3C-6CD1-48F1-8820-5681383A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83F-DD2F-48CD-93AE-0E1D3D86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8AA9-C50E-4A3C-A689-4551E6E0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0F80-C28B-4E8A-B11B-2FF135E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84EE-5263-4C9A-9D53-67CE024D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DF2C-52A4-48CC-8722-6445ADCE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3610-6AFD-451A-AC64-13F63556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B1C2-ECAD-43E6-B63F-CD026676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66B2-D2F6-45CF-B6E4-128EF588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B4A67-8039-44D5-9A93-4B1E62EC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DE262-8ED4-4076-8CDD-823FB8EA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7A2D-069D-4754-89BA-A3CD8A10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B59-43E3-45AD-A659-34D406EA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C660-6989-4C6A-8455-376587B9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510E-0062-4666-929F-34DBD3B2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18963-41DF-4295-A516-967FB30B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FEEE-62EF-4D8E-B74F-6D0BE4E4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7DCD-995F-49A9-83FA-FDF0A9FF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88762-54B4-4815-9F2F-BAD32F7A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4F485-985B-443B-9D1F-9D71AE55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DDED9-72D3-4C4C-89F7-37292570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39F6A-EBAF-4CCF-8718-29E8706A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9FE7A-B6F6-474B-8D7A-62CC045A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C95-039D-4A65-8820-1C8D99A9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26006-678E-42B5-AF69-61225DFD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81BC2-3F46-4754-A237-B9270BB1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48BC-7E4A-4094-9298-8FEEF3AB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4BEF1-D610-44E8-9200-031D56CD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A9D06-A6B2-45FC-8D5A-F971B812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7B89F-41B7-4149-AE8D-80998798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A7C7E-E7DC-4F70-93E1-97100805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AF20-0B35-48C1-B363-C0E2CECC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8515B-62DD-454D-98A6-201242E7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C1D96-B98D-4064-A501-313354B8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B5C-A511-4C7C-BF5E-79D452D9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A4662-3CF1-4C8C-B648-841E3B9C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73001-E795-4281-B203-CB39530B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ED8B6-1BA8-4E20-A5A3-8606BAF0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67E94-0BDF-4D85-968B-E6E6A40B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E8CF5-C53D-4580-BA8A-C0CF247F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6BB1A-8801-4B27-8700-EED8BAB6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3440C-AE4E-4D7F-BD76-3647C6AF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D74C9-B495-4C87-9EAC-0D669C07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7F49F-F8F7-412F-B6A6-F28400B0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C50B7-AE41-4E81-A251-CD5B26EB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E4D-36E7-49AD-9F24-7033BE23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5D974-DB41-4005-ADF8-B92E1725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60DC7-54E9-43AC-A579-1DFF046C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74034-73CE-4A30-B64A-BC4CECF5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041D9-1F34-4D63-BEA4-84C5BE61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F50FC-CA1B-4CB6-B0DF-67DC2249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E610B-EFDE-4063-B132-B6C5E55D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17ED6-8438-4831-AE9F-C5B14D74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1A605-3C25-4677-831D-79D17CB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2B6D2-3850-4310-A7FE-9774C224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F1617-4933-42D6-9F77-B51D6621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018-CDC4-4F77-8D8C-10AA010D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75D43-DE83-43E8-BAAB-B154DFB9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3C839-28CE-435D-9AB0-D176B2C2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C622E-C8B2-4513-9813-F4BAB3B1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76F-7904-4834-9065-66E3F558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A57-4026-47F0-BD98-1BF0BE98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1E3D-B4A8-4127-BB3D-F59DACE16C6F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6"/>
          <p:cNvSpPr/>
          <p:nvPr/>
        </p:nvSpPr>
        <p:spPr>
          <a:xfrm>
            <a:off x="476280" y="3736800"/>
            <a:ext cx="32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ressed challenge(s)/ PPP(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7"/>
          <p:cNvSpPr/>
          <p:nvPr/>
        </p:nvSpPr>
        <p:spPr>
          <a:xfrm>
            <a:off x="476280" y="4665600"/>
            <a:ext cx="29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ressed topic(s) in Work Programm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8"/>
          <p:cNvSpPr/>
          <p:nvPr/>
        </p:nvSpPr>
        <p:spPr>
          <a:xfrm>
            <a:off x="476280" y="1557360"/>
            <a:ext cx="32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ject idea/ Field of experti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9"/>
          <p:cNvSpPr/>
          <p:nvPr/>
        </p:nvSpPr>
        <p:spPr>
          <a:xfrm>
            <a:off x="476280" y="2433600"/>
            <a:ext cx="29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Nam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O:\NKS_Werkstoffe\Veranstaltungen\2016\160512 BE Deutschland\Banner\Baniere_EU_Brokerage_320x50_HD Mainz 2017_Bearbeitet BR.jpg"/>
          <p:cNvPicPr/>
          <p:nvPr/>
        </p:nvPicPr>
        <p:blipFill>
          <a:blip r:embed="rId2"/>
          <a:srcRect l="0" t="0" r="-66" b="0"/>
          <a:stretch/>
        </p:blipFill>
        <p:spPr>
          <a:xfrm>
            <a:off x="-17640" y="-9360"/>
            <a:ext cx="9180720" cy="143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B419-6418-435C-9655-B2969285A3D7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feld 6"/>
          <p:cNvSpPr/>
          <p:nvPr/>
        </p:nvSpPr>
        <p:spPr>
          <a:xfrm>
            <a:off x="480960" y="18900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ation Profi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6D95-9275-46E7-ABF7-39048A77EB3F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feld 6"/>
          <p:cNvSpPr/>
          <p:nvPr/>
        </p:nvSpPr>
        <p:spPr>
          <a:xfrm>
            <a:off x="468360" y="16992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idea/ experti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1230-2123-44E8-AE32-CFC5BDCAF7A3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feld 6"/>
          <p:cNvSpPr/>
          <p:nvPr/>
        </p:nvSpPr>
        <p:spPr>
          <a:xfrm>
            <a:off x="468360" y="22068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ortiu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0DC3-20EC-4BCB-AAA1-A261BAD8797E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feld 6"/>
          <p:cNvSpPr/>
          <p:nvPr/>
        </p:nvSpPr>
        <p:spPr>
          <a:xfrm>
            <a:off x="468360" y="22068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 Detail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C6C6-8BE8-48E3-BEBF-2EF30FE8B55C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563640" y="3736800"/>
            <a:ext cx="5111640" cy="7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Ventricular support bioprostheses &amp; Bioartificial myocardium to avoid Heart 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564000" y="4665240"/>
            <a:ext cx="513072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mimetic approaches to control epidemic heart failure. Ventricular remodeling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684240" y="1555560"/>
            <a:ext cx="501012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Failure Therapy. Tissue engine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o-Bio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684240" y="2432160"/>
            <a:ext cx="5010120" cy="7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of Biosurgic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pidou Hospital, University of Paris, 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e la dat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02/05/2016 - BE 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Espace réservé du pied de pag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Adressed challenge/PP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880A-1698-4985-BC0E-7999FE1DCDC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54ED-9C32-4468-BC51-A08555E87A4C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5302080" y="549360"/>
            <a:ext cx="3591000" cy="2158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4978080" cy="1798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"/>
          <p:cNvPicPr/>
          <p:nvPr/>
        </p:nvPicPr>
        <p:blipFill>
          <a:blip r:embed="rId3"/>
          <a:stretch/>
        </p:blipFill>
        <p:spPr>
          <a:xfrm>
            <a:off x="1835280" y="2820960"/>
            <a:ext cx="5329080" cy="36324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"/>
          <p:cNvSpPr/>
          <p:nvPr/>
        </p:nvSpPr>
        <p:spPr>
          <a:xfrm>
            <a:off x="324000" y="2421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ompidou Hospital                Cardiac Bioass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52440" y="620640"/>
            <a:ext cx="836280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ical to spherical shape in HF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oprostheses for hear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Image 3" descr="Heart with valves.jpg"/>
          <p:cNvPicPr/>
          <p:nvPr/>
        </p:nvPicPr>
        <p:blipFill>
          <a:blip r:embed="rId1"/>
          <a:stretch/>
        </p:blipFill>
        <p:spPr>
          <a:xfrm>
            <a:off x="419040" y="1052640"/>
            <a:ext cx="2208240" cy="2923920"/>
          </a:xfrm>
          <a:prstGeom prst="rect">
            <a:avLst/>
          </a:prstGeom>
          <a:ln w="0">
            <a:noFill/>
          </a:ln>
        </p:spPr>
      </p:pic>
      <p:pic>
        <p:nvPicPr>
          <p:cNvPr id="273" name="Espace réservé du contenu 3" descr="Heart failure spherical.jpg"/>
          <p:cNvPicPr/>
          <p:nvPr/>
        </p:nvPicPr>
        <p:blipFill>
          <a:blip r:embed="rId2"/>
          <a:stretch/>
        </p:blipFill>
        <p:spPr>
          <a:xfrm>
            <a:off x="3203640" y="1197000"/>
            <a:ext cx="1861920" cy="2539800"/>
          </a:xfrm>
          <a:prstGeom prst="rect">
            <a:avLst/>
          </a:prstGeom>
          <a:ln w="0">
            <a:noFill/>
          </a:ln>
        </p:spPr>
      </p:pic>
      <p:pic>
        <p:nvPicPr>
          <p:cNvPr id="274" name="Espace réservé du contenu 3" descr=""/>
          <p:cNvPicPr/>
          <p:nvPr/>
        </p:nvPicPr>
        <p:blipFill>
          <a:blip r:embed="rId3"/>
          <a:stretch/>
        </p:blipFill>
        <p:spPr>
          <a:xfrm>
            <a:off x="6154560" y="1125360"/>
            <a:ext cx="2233800" cy="261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C:\Users\Chachques\Documents\JCC\APPLICATIONS GRANTS\A RECATABI\PATENTS\US PATENT\APPLICATION US 2012\FIG 4- 72, Sutures scaffold.JPG"/>
          <p:cNvPicPr/>
          <p:nvPr/>
        </p:nvPicPr>
        <p:blipFill>
          <a:blip r:embed="rId4"/>
          <a:stretch/>
        </p:blipFill>
        <p:spPr>
          <a:xfrm>
            <a:off x="5292720" y="3935520"/>
            <a:ext cx="1727280" cy="2268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5"/>
          <a:stretch/>
        </p:blipFill>
        <p:spPr>
          <a:xfrm>
            <a:off x="2340000" y="3935520"/>
            <a:ext cx="2060640" cy="23414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"/>
          <p:cNvSpPr/>
          <p:nvPr/>
        </p:nvSpPr>
        <p:spPr>
          <a:xfrm>
            <a:off x="322200" y="4869000"/>
            <a:ext cx="20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ical loop to restore conical sha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6588000" y="4508640"/>
            <a:ext cx="214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diopatch for myocardial infar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9" name="Connecteur droit avec flèche 13"/>
          <p:cNvCxnSpPr/>
          <p:nvPr/>
        </p:nvCxnSpPr>
        <p:spPr>
          <a:xfrm>
            <a:off x="2604960" y="2565000"/>
            <a:ext cx="45504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umsplatzhalt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0BB7-FABB-4741-B33B-CC19DC751CCA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57200" y="822240"/>
          <a:ext cx="8229600" cy="4419720"/>
        </p:xfrm>
        <a:graphic>
          <a:graphicData uri="http://schemas.openxmlformats.org/drawingml/2006/table">
            <a:tbl>
              <a:tblPr/>
              <a:tblGrid>
                <a:gridCol w="2057400"/>
                <a:gridCol w="762120"/>
                <a:gridCol w="1079280"/>
                <a:gridCol w="433080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nown partners / Competence o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 in the 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 Biosurgical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Surgery, Interventional Cardiology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unhofer Instit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edical 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ner 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 in the 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bio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on preclinical and clinical prototy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 and monitoring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technologies for imaging cellular transplants and regenerative processes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viv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umsplatzhalt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12/05/2015 - BE 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Arial"/>
              </a:rPr>
              <a:t>Thematic Brokerage Worksh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5589-22D1-471F-954F-5CA34EB39028}" type="slidenum">
              <a:rPr b="0" lang="fr-BE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57200" y="1341360"/>
          <a:ext cx="8229600" cy="1854360"/>
        </p:xfrm>
        <a:graphic>
          <a:graphicData uri="http://schemas.openxmlformats.org/drawingml/2006/table">
            <a:tbl>
              <a:tblPr/>
              <a:tblGrid>
                <a:gridCol w="2027160"/>
                <a:gridCol w="6202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act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an Carlos Chachques, MD, Ph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atory Biosurgical Research, Pompidou Hos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rue Leblanc. 75015 Paris. F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3156095905     +336131443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chachques@aphp.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09:34:30Z</dcterms:created>
  <dc:creator>Katharina Robohm</dc:creator>
  <dc:description/>
  <dc:language>en-US</dc:language>
  <cp:lastModifiedBy>Chachques</cp:lastModifiedBy>
  <cp:lastPrinted>2015-11-18T12:33:38Z</cp:lastPrinted>
  <dcterms:modified xsi:type="dcterms:W3CDTF">2016-05-07T09:37:44Z</dcterms:modified>
  <cp:revision>61</cp:revision>
  <dc:subject/>
  <dc:title>Project title / organisation name</dc:title>
</cp:coreProperties>
</file>