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5D0-EF49-4694-8112-2B564143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943-761C-4857-98FB-587EFA57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E3F-D037-4B9D-A634-27C8A0EE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519-3C25-4448-91C3-0CFB5FE9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019-53A0-4667-86B7-30FFA7E6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9DED-ACE2-4BD6-9233-DC073BE6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48A0-2C05-479D-A65E-EB5E7421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18B7-FAD7-40A1-9719-B61C2459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25E0-C9EF-4E34-9C93-73C0A4A2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EB66-1CC1-4E2F-9A03-C8677EAA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0293-5BF3-423F-95F3-4ED4C071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3C0-4FC8-406E-92F4-0EB66E72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15E3-6F07-4A92-974B-0FC00A58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1729-B927-4F4E-870E-1722882A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BE64-FD5A-4501-88B6-2777E8CC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5AC0-655D-4460-A44D-0BD71D27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8438-F52A-4A0B-AC17-28268861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6030-5412-4F7D-A245-392FAC47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E1FE-148C-4B59-9D1C-D86E1E52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B6BAC-06E0-4EEE-8024-87D83ACA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CB43-8763-48E2-AA29-E452A3B2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E150-D3EC-4283-8921-0CB3F399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99B-3BA4-41A8-841A-3502A85A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5184-1EE6-4A97-9877-81868CBB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F8B2-029B-4AD1-81B6-1FC2D7BA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4362F-DCBC-41FC-A172-1E6C0086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B08B-FAD4-4DF0-BEDA-12F2457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D26C5-2005-4081-A2FE-4A28A0EB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2DB9-3C31-4925-8391-145B61F0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83B62-FF8D-406B-AB1F-6830CD48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F5024-5679-4951-962F-81BC9709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4C75D-F9CE-468D-A6A1-7584E243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511C5-4651-4DAC-A222-D71661EE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1B9-3954-4B62-BC53-83317793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10012-B12E-4279-9F57-E81B438B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6439-6B9D-4885-8EC7-F6CB8695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F7C14-022D-4FFE-B6A9-E47AD06F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3CB46-3F39-464D-AC7D-6BC846F8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77793-49A0-4639-B8A9-C6E69370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345E1-63E2-46FD-8781-FC34BD3A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63B3-E8C5-486A-9AE8-9987F90B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9634D-9350-41C1-A8FB-8B3BDE22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5F22C-00E5-4196-A2E8-8161BCBC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7CC8F-67FA-4544-B6EB-0A0B4897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485-5E67-4ED3-92AF-7AA5E675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E00D3-E125-4E28-ACE6-2B9FF93A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0D1A-1DA5-42F7-8161-7BEB6479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0EB62-2AAA-4BDD-B1BF-0D9FBACA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A685A-AF4D-45DB-926C-3323A7D2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E6E2D-31BA-4023-A88A-F5F04E87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C33D7-9B38-4BEA-AA4D-AD877E9A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B98FA-685F-4102-BB17-EA1541B7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DF5BB-34DA-492E-93AC-358323EA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0C18-1A6F-4848-B43A-39151586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EE042-E7B8-4A53-9FA0-E0B31791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AE1-B3A9-4072-9CBE-C268E5F1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FE199-EE6B-4F95-B1B6-D3A26B1F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930D8-8FAA-491E-8852-112C1B92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720C2-0C59-44CC-9F45-9701F2AA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1C158-44F2-484C-93F5-99F55CBB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AEFEE-0E2F-4302-89CE-3C93891C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B5A67-8477-4AC9-AE2B-B1FA71CA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1C46A-D54A-4B60-AB01-E577E306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2B2C3-15AC-4854-994B-174BD2A8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B08B0-81C2-4658-A067-263D33A1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6D135-718E-4318-8FAE-4040CB5C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465-CEF2-4556-A0A9-9CF2D1BC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7F1C9-5539-4D98-A944-BFF9FB85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A70C6-5515-40A2-A6C5-ED02A631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8FAF3-158E-4FDD-8852-35EB9459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A9B-6DDF-43FB-A081-6D7F56FE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981-052D-41CF-9A51-4B98173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EDE5-9A65-434F-ACBE-B72CB805AB48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6"/>
          <p:cNvSpPr/>
          <p:nvPr/>
        </p:nvSpPr>
        <p:spPr>
          <a:xfrm>
            <a:off x="476280" y="3736800"/>
            <a:ext cx="32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ressed challenge(s)/ PPP(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7"/>
          <p:cNvSpPr/>
          <p:nvPr/>
        </p:nvSpPr>
        <p:spPr>
          <a:xfrm>
            <a:off x="476280" y="4665600"/>
            <a:ext cx="29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ressed topic(s) in Work Programm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8"/>
          <p:cNvSpPr/>
          <p:nvPr/>
        </p:nvSpPr>
        <p:spPr>
          <a:xfrm>
            <a:off x="476280" y="1557360"/>
            <a:ext cx="32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ct idea/ Field of experti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9"/>
          <p:cNvSpPr/>
          <p:nvPr/>
        </p:nvSpPr>
        <p:spPr>
          <a:xfrm>
            <a:off x="476280" y="2433600"/>
            <a:ext cx="29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Nam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O:\NKS_Werkstoffe\Veranstaltungen\2016\160512 BE Deutschland\Banner\Baniere_EU_Brokerage_320x50_HD Mainz 2017_Bearbeitet BR.jpg"/>
          <p:cNvPicPr/>
          <p:nvPr/>
        </p:nvPicPr>
        <p:blipFill>
          <a:blip r:embed="rId2"/>
          <a:srcRect l="0" t="0" r="-66" b="0"/>
          <a:stretch/>
        </p:blipFill>
        <p:spPr>
          <a:xfrm>
            <a:off x="-17640" y="-9360"/>
            <a:ext cx="9180720" cy="143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0CDD-1C01-42C5-B7A0-212861561199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feld 6"/>
          <p:cNvSpPr/>
          <p:nvPr/>
        </p:nvSpPr>
        <p:spPr>
          <a:xfrm>
            <a:off x="480960" y="18900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ation Profi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9550-4237-46A4-AAAA-91BD54C5E5AA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feld 6"/>
          <p:cNvSpPr/>
          <p:nvPr/>
        </p:nvSpPr>
        <p:spPr>
          <a:xfrm>
            <a:off x="468360" y="16992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idea/ experti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DCBB-1AE9-40D6-BFF8-1C1BFEE38472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feld 6"/>
          <p:cNvSpPr/>
          <p:nvPr/>
        </p:nvSpPr>
        <p:spPr>
          <a:xfrm>
            <a:off x="468360" y="22068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ortiu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6FA0-AB17-4844-9CF1-BDD89571A290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feld 6"/>
          <p:cNvSpPr/>
          <p:nvPr/>
        </p:nvSpPr>
        <p:spPr>
          <a:xfrm>
            <a:off x="468360" y="22068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 Detail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461D-D156-4C8A-BDB4-457B400DD61F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563640" y="3736800"/>
            <a:ext cx="5111640" cy="7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Ventricular support bioprostheses &amp; Bioartificial myocardium to avoid Heart 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64000" y="4665240"/>
            <a:ext cx="513072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imetic approaches to control epidemic heart failure. Ventricular remodel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684240" y="1555560"/>
            <a:ext cx="501012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Failure Therapy. Tissue engine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o-Bio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684240" y="2432160"/>
            <a:ext cx="501012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of Biosurgic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pidou Hospital, University of Paris, 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e la dat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02/05/2016 - BE 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Espace réservé du pied de pag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Adressed challenge/PP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289B-7A4E-4EB0-A40A-E9042EDA0CA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85BA-47A4-49EE-891D-1F298EA53F2A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5302080" y="549360"/>
            <a:ext cx="3591000" cy="2158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4978080" cy="1798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"/>
          <p:cNvPicPr/>
          <p:nvPr/>
        </p:nvPicPr>
        <p:blipFill>
          <a:blip r:embed="rId3"/>
          <a:stretch/>
        </p:blipFill>
        <p:spPr>
          <a:xfrm>
            <a:off x="1835280" y="2820960"/>
            <a:ext cx="5329080" cy="36324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324000" y="2421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mpidou Hospital                Cardiac Bioass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52440" y="620640"/>
            <a:ext cx="836280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ical to spherical shape in HF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oprostheses for hear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Image 3" descr="Heart with valves.jpg"/>
          <p:cNvPicPr/>
          <p:nvPr/>
        </p:nvPicPr>
        <p:blipFill>
          <a:blip r:embed="rId1"/>
          <a:stretch/>
        </p:blipFill>
        <p:spPr>
          <a:xfrm>
            <a:off x="419040" y="1052640"/>
            <a:ext cx="2208240" cy="2923920"/>
          </a:xfrm>
          <a:prstGeom prst="rect">
            <a:avLst/>
          </a:prstGeom>
          <a:ln w="0">
            <a:noFill/>
          </a:ln>
        </p:spPr>
      </p:pic>
      <p:pic>
        <p:nvPicPr>
          <p:cNvPr id="273" name="Espace réservé du contenu 3" descr="Heart failure spherical.jpg"/>
          <p:cNvPicPr/>
          <p:nvPr/>
        </p:nvPicPr>
        <p:blipFill>
          <a:blip r:embed="rId2"/>
          <a:stretch/>
        </p:blipFill>
        <p:spPr>
          <a:xfrm>
            <a:off x="3203640" y="1197000"/>
            <a:ext cx="1861920" cy="2539800"/>
          </a:xfrm>
          <a:prstGeom prst="rect">
            <a:avLst/>
          </a:prstGeom>
          <a:ln w="0">
            <a:noFill/>
          </a:ln>
        </p:spPr>
      </p:pic>
      <p:pic>
        <p:nvPicPr>
          <p:cNvPr id="274" name="Espace réservé du contenu 3" descr=""/>
          <p:cNvPicPr/>
          <p:nvPr/>
        </p:nvPicPr>
        <p:blipFill>
          <a:blip r:embed="rId3"/>
          <a:stretch/>
        </p:blipFill>
        <p:spPr>
          <a:xfrm>
            <a:off x="6154560" y="1125360"/>
            <a:ext cx="2233800" cy="261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:\Users\Chachques\Documents\JCC\APPLICATIONS GRANTS\A RECATABI\PATENTS\US PATENT\APPLICATION US 2012\FIG 4- 72, Sutures scaffold.JPG"/>
          <p:cNvPicPr/>
          <p:nvPr/>
        </p:nvPicPr>
        <p:blipFill>
          <a:blip r:embed="rId4"/>
          <a:stretch/>
        </p:blipFill>
        <p:spPr>
          <a:xfrm>
            <a:off x="5292720" y="3935520"/>
            <a:ext cx="1727280" cy="2268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5"/>
          <a:stretch/>
        </p:blipFill>
        <p:spPr>
          <a:xfrm>
            <a:off x="2340000" y="3935520"/>
            <a:ext cx="2060640" cy="23414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322200" y="4869000"/>
            <a:ext cx="20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ical loop to restore conical sha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6588000" y="4508640"/>
            <a:ext cx="214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diopatch for myocardial infar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9" name="Connecteur droit avec flèche 13"/>
          <p:cNvCxnSpPr/>
          <p:nvPr/>
        </p:nvCxnSpPr>
        <p:spPr>
          <a:xfrm>
            <a:off x="2604960" y="2565000"/>
            <a:ext cx="45504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umsplatzhalt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D4DE-A2F1-4977-A209-25FECDC82487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" y="822240"/>
          <a:ext cx="8229600" cy="4419720"/>
        </p:xfrm>
        <a:graphic>
          <a:graphicData uri="http://schemas.openxmlformats.org/drawingml/2006/table">
            <a:tbl>
              <a:tblPr/>
              <a:tblGrid>
                <a:gridCol w="2057400"/>
                <a:gridCol w="762120"/>
                <a:gridCol w="1079280"/>
                <a:gridCol w="433080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nown partners / Competence o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 in the 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 Biosurgical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Surgery, Interventional Cardiology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unhofer Instit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ed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ner 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 in the 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bio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on preclinical and clinical prototy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 and monitoring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technologies for imaging cellular transplants and regenerative processes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viv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umsplatzhalt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26FE-9477-4E93-A77D-89DB02DD47C1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57200" y="1341360"/>
          <a:ext cx="8229600" cy="1854360"/>
        </p:xfrm>
        <a:graphic>
          <a:graphicData uri="http://schemas.openxmlformats.org/drawingml/2006/table">
            <a:tbl>
              <a:tblPr/>
              <a:tblGrid>
                <a:gridCol w="2027160"/>
                <a:gridCol w="6202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act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an Carlos Chachques, MD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atory Biosurgical Research, Pompidou Hos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rue Leblanc. 75015 Paris. 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3156095905     +33613144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chachques@aphp.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09:34:30Z</dcterms:created>
  <dc:creator>Katharina Robohm</dc:creator>
  <dc:description/>
  <dc:language>en-US</dc:language>
  <cp:lastModifiedBy>Chachques</cp:lastModifiedBy>
  <cp:lastPrinted>2015-11-18T12:33:38Z</cp:lastPrinted>
  <dcterms:modified xsi:type="dcterms:W3CDTF">2016-05-07T09:37:44Z</dcterms:modified>
  <cp:revision>61</cp:revision>
  <dc:subject/>
  <dc:title>Project title / organisation name</dc:title>
</cp:coreProperties>
</file>