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495-EDC5-4EE6-A48C-00BD0FFA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CFE-0587-4DB3-A013-95B19D5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24B-6557-4B8B-8383-C27422E4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B3D-D998-4DB3-AC31-FF6BCFB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991-7F18-4F77-838F-67D7979D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853-1FF6-4303-B2DF-11D9E8D9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221-C508-49A0-81BE-979E2C5F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4E0-D2E9-4F9D-BD5F-A6C888B1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962-2FB3-48C7-A322-03A78C8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8FF-41C1-4B3B-A07A-C6DA150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A64-DBA3-40BB-9323-7F7EA2B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8FE-841A-447E-BD02-828E6C0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E87-8C21-4C88-9111-01BF24C9C9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r.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iotr Piszczek, Associate Professor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hair of Inorganic and Coordination Chemistr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Faculty of Chemistr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icolaus Copernicus University in Toruń, Poland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no-implant Ltd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Toruń, Poland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98520" y="3560760"/>
            <a:ext cx="8437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rtise i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Modification of the titanium/titanium alloy implants surface with the use of chemical and physical methods, such as: sol-gel, chemical oxidation, electrochemical oxidation, thermal oxidation, in order to create optimal osseointegration condi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and spectral charactercterization of metal transition complexes, and their application in the fabrication of hybride materi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of biocompatible materials possesing antibacterial prop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Production of metallic and metal oxide nanolayers with the use of chemical vapor deposition andt atomic layer deposition techniqu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Characterization of nanomaterial and biomedical materials with the use of instrumental analysis (XRD, XPS, SEM, AFM, EDX, TEM, Raman spectroscopy, IR spectroscopy, mass spectrometry (MS)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288040" y="44280"/>
            <a:ext cx="353196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109368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cted benefits and activities during participation in BIONEC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metallic implants surface modification in order to create the optimal biomaterial for the needs of: (a) neurology and (b) card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nanocomposite or hybrid materials in order to create the optimal biomaterial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from groups who are experienced in optimization of the biomaterial synthesis pathway 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share experience in 3D printing of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about and propose design of new biomaterials for combined application with stem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gather innovative combination of partners for new projects` 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Foreseen maximum contribution: in WG1 and WG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9:39:55Z</dcterms:created>
  <dc:creator>Dinko Mitrečić</dc:creator>
  <dc:description/>
  <dc:language>en-US</dc:language>
  <cp:lastModifiedBy>Piotr</cp:lastModifiedBy>
  <dcterms:modified xsi:type="dcterms:W3CDTF">2017-04-04T07:17:56Z</dcterms:modified>
  <cp:revision>22</cp:revision>
  <dc:subject/>
  <dc:title>Prof. Dinko Mitrecic, MD, PhD Laboratory for Stem Cells, Croatian Institute for Brain Research University of Zagreb School of Medicine, Croatia</dc:title>
</cp:coreProperties>
</file>