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510-590A-4DD8-9523-D8EF2AD1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151-2AEB-4CDE-99E1-E4C92E3A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CE9D-7DAD-4D3C-97EA-BCB56E6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45F-572E-4C94-8FAB-EA3B11F1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37C-CA6E-44FE-8EC0-378F82B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864-FEC1-445C-BB25-7B5AD71F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75D-A68D-4603-A93D-78EA88F1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14E-322F-4EFB-AE07-CAE204F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A37-2582-471B-B270-EB8D067C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3DC-4D93-49A6-9C51-A623CC9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F68-DFFF-46D6-9E34-11EA4752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6B1-4376-4716-8289-BF8E20BD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24A-83AD-4585-9FB0-B57231806B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r.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iotr Piszczek, Associate Professor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hair of Inorganic and Coordination Chemistr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Faculty of Chemistry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icolaus Copernicus University in Toruń, Poland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no-implant Ltd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Toruń, Poland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98520" y="3560760"/>
            <a:ext cx="8437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rtise i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Modification of the titanium/titanium alloy implants surface with the use of chemical and physical methods, such as: sol-gel, chemical oxidation, electrochemical oxidation, thermal oxidation, in order to create optimal osseointegration condi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and spectral charactercterization of metal transition complexes, and their application in the fabrication of hybride materi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ynthesis of biocompatible materials possesing antibacterial proper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Production of metallic and metal oxide nanolayers with the use of chemical vapor deposition andt atomic layer deposition techniqu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Characterization of nanomaterial and biomedical materials with the use of instrumental analysis (XRD, XPS, SEM, AFM, EDX, TEM, Raman spectroscopy, IR spectroscopy, mass spectrometry (MS))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5288040" y="44280"/>
            <a:ext cx="353196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1093680" cy="15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Calibri"/>
              </a:rPr>
              <a:t>Expected benefits and activities during participation in BIONEC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metallic implants surface modification in order to create the optimal biomaterial for the needs of: (a) neurology and (b) card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Share experience with the groups who works with the nanocomposite or hybrid materials in order to create the optimal biomaterial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from groups who are experienced in optimization of the biomaterial synthesis pathway  for the needs of: (a) neurology implants and (b) cardiology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share experience in 3D printing of impl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learn about and propose design of new biomaterials for combined application with stem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Would like to gather innovative combination of partners for new projects` applic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Calibri"/>
              </a:rPr>
              <a:t>Foreseen maximum contribution: in WG1 and WG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9:39:55Z</dcterms:created>
  <dc:creator>Dinko Mitrečić</dc:creator>
  <dc:description/>
  <dc:language>en-US</dc:language>
  <cp:lastModifiedBy>Piotr</cp:lastModifiedBy>
  <dcterms:modified xsi:type="dcterms:W3CDTF">2017-04-04T07:17:56Z</dcterms:modified>
  <cp:revision>22</cp:revision>
  <dc:subject/>
  <dc:title>Prof. Dinko Mitrecic, MD, PhD Laboratory for Stem Cells, Croatian Institute for Brain Research University of Zagreb School of Medicine, Croatia</dc:title>
</cp:coreProperties>
</file>