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62331-67F8-4593-BEBB-071412A09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CF581-57F6-4F46-99F6-101136B98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E5F21-9931-4766-A2D2-530BF45C0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98F12-2889-41EA-A646-0A14D421E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03209-7AD0-46D2-AEF2-0F5E6CC9F3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DC75A-E5CF-4014-97FD-CAD65FE25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D63A8-EAED-4D27-8B8C-326B598F8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B0BC8-1170-4C02-BD97-77EC49E23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1EAB5-9934-453A-A57F-89F432FB5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F7544-EA09-4FAD-9589-F3AFEE75A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15B4B-4056-4485-B658-F4DE055C6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B693A-2D10-44F7-8C2C-EF3AA2157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C7B8E-3322-432D-BAC3-BC3A57FBE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4A9CC-C407-4CAB-9046-8B39C90C1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7FFF0-3B36-4AC1-A526-7512234BF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A1DDB-3422-4C11-BF0B-2F806BF45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4BFB5E-BE36-49A7-AE3E-D5DA10522A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74195-A50E-40D1-958A-FB8F1E289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A4F8B-85BD-4F1A-AE3B-1C3645E0A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69659-9CB7-45BF-B718-80C15F35A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7BEFC-2BE1-4BD7-A926-C73D336FF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19AE2-8376-4B79-A292-00E77102B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12B28-2114-4DE4-8C2F-32FAA103B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4C658-C7D0-496A-AC7E-2E1639FC8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8357-3587-4B8F-8A92-B4C6E35A13A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2AECD-D54B-4C83-9217-9B06A010E93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3366"/>
                </a:solidFill>
                <a:latin typeface="Times New Roman"/>
              </a:rPr>
              <a:t>Diagnosis and Treatment of Patients with Cardiovascular Diseases</a:t>
            </a:r>
            <a:r>
              <a:rPr b="1" lang="en-US" sz="3600" spc="-1" strike="noStrike">
                <a:solidFill>
                  <a:srgbClr val="003366"/>
                </a:solidFill>
                <a:latin typeface="Arial"/>
              </a:rPr>
              <a:t> </a:t>
            </a:r>
            <a:endParaRPr b="1" lang="en-US" sz="3600" spc="-1" strike="noStrike">
              <a:solidFill>
                <a:srgbClr val="003366"/>
              </a:solidFill>
              <a:latin typeface="Arial"/>
            </a:endParaRPr>
          </a:p>
        </p:txBody>
      </p:sp>
      <p:sp>
        <p:nvSpPr>
          <p:cNvPr id="96" name="PlaceHolder 2"/>
          <p:cNvSpPr>
            <a:spLocks noGrp="1"/>
          </p:cNvSpPr>
          <p:nvPr>
            <p:ph type="subTitle"/>
          </p:nvPr>
        </p:nvSpPr>
        <p:spPr>
          <a:xfrm>
            <a:off x="837720" y="2971440"/>
            <a:ext cx="7620120" cy="1289160"/>
          </a:xfrm>
          <a:prstGeom prst="rect">
            <a:avLst/>
          </a:prstGeom>
          <a:noFill/>
          <a:ln w="0">
            <a:noFill/>
          </a:ln>
        </p:spPr>
        <p:txBody>
          <a:bodyPr lIns="90000" rIns="90000" tIns="46800" bIns="46800" anchor="b">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6666"/>
                </a:solidFill>
                <a:latin typeface="Times New Roman"/>
              </a:rPr>
              <a:t>Private Health Institution "Dr.Adamovski"-Bitola, Macedonia</a:t>
            </a:r>
            <a:r>
              <a:rPr b="1" lang="en-US" sz="2800" spc="-1" strike="noStrike">
                <a:solidFill>
                  <a:srgbClr val="006666"/>
                </a:solidFill>
                <a:latin typeface="Times New Roman"/>
              </a:rPr>
              <a:t> </a:t>
            </a:r>
            <a:endParaRPr b="0" lang="en-US" sz="2800" spc="-1" strike="noStrike">
              <a:solidFill>
                <a:srgbClr val="006666"/>
              </a:solidFill>
              <a:latin typeface="Arial"/>
            </a:endParaRPr>
          </a:p>
        </p:txBody>
      </p:sp>
      <p:sp>
        <p:nvSpPr>
          <p:cNvPr id="97" name=""/>
          <p:cNvSpPr/>
          <p:nvPr/>
        </p:nvSpPr>
        <p:spPr>
          <a:xfrm>
            <a:off x="533520" y="533412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2009 – Graduated as Medical Doctor as scholar at Medical University Sofia - Republic of Bulgaria</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2012 - Included in Macedonian National Screening Programs for early detection of Cardiovascular Diseases </a:t>
            </a: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6666"/>
                </a:solidFill>
                <a:latin typeface="Times New Roman"/>
              </a:rPr>
              <a:t>The Goals of the Therapy</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16" name="PlaceHolder 1"/>
          <p:cNvSpPr>
            <a:spLocks noGrp="1"/>
          </p:cNvSpPr>
          <p:nvPr>
            <p:ph/>
          </p:nvPr>
        </p:nvSpPr>
        <p:spPr>
          <a:xfrm>
            <a:off x="1450800" y="2361960"/>
            <a:ext cx="7693200" cy="3724200"/>
          </a:xfrm>
          <a:prstGeom prst="rect">
            <a:avLst/>
          </a:prstGeom>
          <a:noFill/>
          <a:ln w="0">
            <a:noFill/>
          </a:ln>
        </p:spPr>
        <p:txBody>
          <a:bodyPr lIns="90000" rIns="90000" tIns="46800" bIns="46800" anchor="t">
            <a:normAutofit fontScale="86000"/>
          </a:bodyPr>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Effective antihypertensive medication</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Reduce plasma volume</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Peripheral vasodilatation</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Reduces the heart rate</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Inhibit renin release</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Selective blocking of ATII receptor level</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Natriuretic effect</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Block the penetration of Ca</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Reduces the body's ability to form clots in the blood</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Decrease</a:t>
            </a:r>
            <a:r>
              <a:rPr b="1" lang="en-US" sz="2000" spc="-1" strike="noStrike">
                <a:solidFill>
                  <a:srgbClr val="003366"/>
                </a:solidFill>
                <a:latin typeface="Times New Roman"/>
              </a:rPr>
              <a:t> of high lipid levels</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3366"/>
                </a:solidFill>
                <a:latin typeface="Times New Roman"/>
              </a:rPr>
              <a:t>Reduce cardiovascular disease and mortality</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tatins have been studied for improving operative outcomes in cardiac and vascular surgery</a:t>
            </a:r>
            <a:endParaRPr b="0" lang="en-US" sz="2000" spc="-1" strike="noStrike">
              <a:solidFill>
                <a:srgbClr val="003366"/>
              </a:solidFill>
              <a:latin typeface="Arial"/>
            </a:endParaRPr>
          </a:p>
          <a:p>
            <a:pPr marL="294840" indent="-2948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Reduce the number of non-fatal heart attack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rPr>
              <a:t>Publications</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3366"/>
                </a:solidFill>
                <a:latin typeface="Times New Roman"/>
              </a:rPr>
              <a:t>1. Adamovski P., Nelovska L., Ivanovska M. at all. Experience in healing hypertension with ace-inhibitors at patients with diabetes type 2, Hospitalized in hospice “Sue Ryder” Bitola–R.Macedonia. First International Medical Congress, Varna, Republic of Bulgaria, 2010, pp 7-8.</a:t>
            </a:r>
            <a:endParaRPr b="0" lang="en-US" sz="1200" spc="-1" strike="noStrike">
              <a:solidFill>
                <a:srgbClr val="003366"/>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3366"/>
                </a:solidFill>
                <a:latin typeface="Times New Roman"/>
              </a:rPr>
              <a:t>2. Adamovski P., Ilieva J., Adamovska E., Milevska L. Participation Of Ischemia Heart Diseases In Municipality of Bitola In The Period From 2002 To 2006. 30th International Medical Scientific Congress for students and young doctors Ohrid, Republic of Macedonia, 2007, pp 31.</a:t>
            </a:r>
            <a:endParaRPr b="0" lang="en-US" sz="1200" spc="-1" strike="noStrike">
              <a:solidFill>
                <a:srgbClr val="003366"/>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3366"/>
                </a:solidFill>
                <a:latin typeface="Times New Roman"/>
              </a:rPr>
              <a:t>3. Adamovska E., Adamovski P., Kotevska B. The influence of hypertension, obesity and diabetes on the appearance of endometrial cancer in the municipality of Bitola, R. Macedonia – A Case Control Study. First International Medical Congress, Varna, Republic of Bulgaria, 2010, pp.</a:t>
            </a:r>
            <a:endParaRPr b="0" lang="en-US" sz="1200" spc="-1" strike="noStrike">
              <a:solidFill>
                <a:srgbClr val="003366"/>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3366"/>
                </a:solidFill>
                <a:latin typeface="Times New Roman"/>
              </a:rPr>
              <a:t>4. Adamovska E., Adamovski P., Ilieva J. Epidemiological characteristics of myocardial infarction in the municipality of Bitola. 17th Congress of the Doctors of R.Macedonia with International Participation, Ohrid, Republic of Macedonia, 2007, pp 25.</a:t>
            </a:r>
            <a:endParaRPr b="0" lang="en-US" sz="1200" spc="-1" strike="noStrike">
              <a:solidFill>
                <a:srgbClr val="003366"/>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3366"/>
                </a:solidFill>
                <a:latin typeface="Times New Roman"/>
              </a:rPr>
              <a:t>5. Laimer M, Melmer A. , Lamina C., Raschenberger J, Adamovski P et all. Telomere length increase after weight loss induced by bariatric surgery: results from a 10 year prospective study. Int J Obes (Lond). 2016 May;40(5):773-8. doi:10.1038/ijo.2015.238. Epub 2015 Nov 26.</a:t>
            </a:r>
            <a:endParaRPr b="0" lang="en-US" sz="1200" spc="-1" strike="noStrike">
              <a:solidFill>
                <a:srgbClr val="003366"/>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6.  Law MR, Wald NJ, Rudnicka AR (June 2003). "Quantifying effect of statins on low density lipoprotein cholesterol, ischaemic heart disease, and stroke: systematic review and meta-analysis". BMJ. 326 (7404):1423. PMC 162260 . PMID 12829554. doi:10.1136/bmj.326.7404.1423.</a:t>
            </a:r>
            <a:endParaRPr b="0" lang="en-US" sz="1200" spc="-1" strike="noStrike">
              <a:solidFill>
                <a:srgbClr val="003366"/>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7. De Waal BA, Buise MP, van Zundert AA (January 2015). "Perioperative statin therapy in patients at high risk for cardiovascular morbidity undergoing surgery: a review". </a:t>
            </a:r>
            <a:r>
              <a:rPr b="0" i="1" lang="es-ES_tradnl" sz="1200" spc="-1" strike="noStrike">
                <a:solidFill>
                  <a:srgbClr val="003366"/>
                </a:solidFill>
                <a:latin typeface="Times New Roman"/>
              </a:rPr>
              <a:t>Br J Anaesth. </a:t>
            </a:r>
            <a:r>
              <a:rPr b="1" i="1" lang="es-ES_tradnl" sz="1200" spc="-1" strike="noStrike">
                <a:solidFill>
                  <a:srgbClr val="003366"/>
                </a:solidFill>
                <a:latin typeface="Times New Roman"/>
              </a:rPr>
              <a:t>114</a:t>
            </a:r>
            <a:r>
              <a:rPr b="0" i="1" lang="es-ES_tradnl" sz="1200" spc="-1" strike="noStrike">
                <a:solidFill>
                  <a:srgbClr val="003366"/>
                </a:solidFill>
                <a:latin typeface="Times New Roman"/>
              </a:rPr>
              <a:t> (1): 44–52.PMID 25186819. doi:10.1093/bja/aeu295.</a:t>
            </a:r>
            <a:endParaRPr b="0" lang="en-US" sz="1200" spc="-1" strike="noStrike">
              <a:solidFill>
                <a:srgbClr val="003366"/>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8. </a:t>
            </a:r>
            <a:r>
              <a:rPr b="0" i="1" lang="en-US" sz="1200" spc="-1" strike="noStrike">
                <a:solidFill>
                  <a:srgbClr val="003366"/>
                </a:solidFill>
                <a:latin typeface="Times New Roman"/>
              </a:rPr>
              <a:t>Abourbih S, Filion KB, Joseph L, Schiffrin EL, Rinfret S, Poirier P, Pilote L, Genest J, Eisenberg MJ (2009). "Effect of fibrates on lipid profiles and cardiovascular outcomes: a systematic review". Am J Med. </a:t>
            </a:r>
            <a:r>
              <a:rPr b="1" i="1" lang="en-US" sz="1200" spc="-1" strike="noStrike">
                <a:solidFill>
                  <a:srgbClr val="003366"/>
                </a:solidFill>
                <a:latin typeface="Times New Roman"/>
              </a:rPr>
              <a:t>122</a:t>
            </a:r>
            <a:r>
              <a:rPr b="0" i="1" lang="en-US" sz="1200" spc="-1" strike="noStrike">
                <a:solidFill>
                  <a:srgbClr val="003366"/>
                </a:solidFill>
                <a:latin typeface="Times New Roman"/>
              </a:rPr>
              <a:t> (10): 962.e1–962.e8.PMID 19698935.doi:10.1016/j.amjmed.2009.03.030.</a:t>
            </a:r>
            <a:endParaRPr b="0" lang="en-US" sz="1200" spc="-1" strike="noStrike">
              <a:solidFill>
                <a:srgbClr val="003366"/>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 </a:t>
            </a:r>
            <a:r>
              <a:rPr b="0" lang="en-US" sz="1200" spc="-1" strike="noStrike">
                <a:solidFill>
                  <a:srgbClr val="003366"/>
                </a:solidFill>
                <a:latin typeface="Times New Roman"/>
              </a:rPr>
              <a:t>9. </a:t>
            </a:r>
            <a:r>
              <a:rPr b="0" i="1" lang="en-US" sz="1200" spc="-1" strike="noStrike">
                <a:solidFill>
                  <a:srgbClr val="003366"/>
                </a:solidFill>
                <a:latin typeface="Times New Roman"/>
              </a:rPr>
              <a:t>Jun M, Foote C, Lv J, et al. (2010). "Effects of fibrates on cardiovascular outcomes: a systematic review and meta-analysis". Lancet. </a:t>
            </a:r>
            <a:r>
              <a:rPr b="1" i="1" lang="en-US" sz="1200" spc="-1" strike="noStrike">
                <a:solidFill>
                  <a:srgbClr val="003366"/>
                </a:solidFill>
                <a:latin typeface="Times New Roman"/>
              </a:rPr>
              <a:t>375</a:t>
            </a:r>
            <a:r>
              <a:rPr b="0" i="1" lang="en-US" sz="1200" spc="-1" strike="noStrike">
                <a:solidFill>
                  <a:srgbClr val="003366"/>
                </a:solidFill>
                <a:latin typeface="Times New Roman"/>
              </a:rPr>
              <a:t> (9729): 1875–1884. doi:10.10116/S0140-6736(10)60656-3.</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6666"/>
                </a:solidFill>
                <a:latin typeface="Times New Roman"/>
              </a:rPr>
              <a:t>Materials</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3366"/>
                </a:solidFill>
                <a:latin typeface="Arial"/>
              </a:rPr>
              <a:t>	</a:t>
            </a:r>
            <a:r>
              <a:rPr b="1" lang="en" sz="2400" spc="-1" strike="noStrike">
                <a:solidFill>
                  <a:srgbClr val="339933"/>
                </a:solidFill>
                <a:latin typeface="Times New Roman"/>
              </a:rPr>
              <a:t>Patients with chronic cardiovascular diseases -           84 patients (64% females and 44% men )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Arterial Hypertens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Heart valve regurgitation (Mitral, aortic, tricuspid and pulmonary valve)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Ischemic Heart Disease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yperlipemia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Patients with presence of coronary angioplasty implant and transpla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6666"/>
                </a:solidFill>
                <a:latin typeface="Times New Roman"/>
              </a:rPr>
              <a:t>Methods - Laboratory Blood Tests(LU-1)</a:t>
            </a:r>
            <a:endParaRPr b="1" lang="en-US" sz="32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Red cell sedimentation , Red cells, Hemoglobin, Hematocrit, MCV, MCH, MCHC, RDW, Ir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Leukocytes - Granulocytes, Lymphocytes, Monocyt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Platelets - MPV, PDW, PC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Enzyme – Aspartate Aminotransferase test (AST); Alanine Aminotransferase test (AL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Lipids - Total Cholesterol, Triglycerid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Glucose status - Glucose, Glycosylated Hemoglobi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3366"/>
                </a:solidFill>
                <a:latin typeface="Times New Roman"/>
              </a:rPr>
              <a:t>Degradation products - Creatinine, Ure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45288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6666"/>
                </a:solidFill>
                <a:latin typeface="Times New Roman"/>
              </a:rPr>
              <a:t>Methods - Laboratory Blood Tests(LU-1)</a:t>
            </a:r>
            <a:endParaRPr b="1" lang="en-US" sz="3200" spc="-1" strike="noStrike">
              <a:solidFill>
                <a:srgbClr val="006666"/>
              </a:solidFill>
              <a:latin typeface="Arial"/>
            </a:endParaRPr>
          </a:p>
        </p:txBody>
      </p:sp>
      <p:pic>
        <p:nvPicPr>
          <p:cNvPr id="103" name="" descr=""/>
          <p:cNvPicPr/>
          <p:nvPr/>
        </p:nvPicPr>
        <p:blipFill>
          <a:blip r:embed="rId1"/>
          <a:stretch/>
        </p:blipFill>
        <p:spPr>
          <a:xfrm>
            <a:off x="990720" y="2363760"/>
            <a:ext cx="6476760" cy="449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6666"/>
                </a:solidFill>
                <a:latin typeface="Times New Roman"/>
              </a:rPr>
              <a:t>Methods - Laboratory Blood Tests(LU-1)</a:t>
            </a:r>
            <a:endParaRPr b="1" lang="en-US" sz="3200" spc="-1" strike="noStrike">
              <a:solidFill>
                <a:srgbClr val="006666"/>
              </a:solidFill>
              <a:latin typeface="Arial"/>
            </a:endParaRPr>
          </a:p>
        </p:txBody>
      </p:sp>
      <p:pic>
        <p:nvPicPr>
          <p:cNvPr id="105" name="" descr=""/>
          <p:cNvPicPr/>
          <p:nvPr/>
        </p:nvPicPr>
        <p:blipFill>
          <a:blip r:embed="rId1"/>
          <a:stretch/>
        </p:blipFill>
        <p:spPr>
          <a:xfrm>
            <a:off x="914400" y="2286000"/>
            <a:ext cx="6477120" cy="446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66"/>
                </a:solidFill>
                <a:latin typeface="Times New Roman"/>
              </a:rPr>
              <a:t>Methods-Electrocardiography</a:t>
            </a:r>
            <a:r>
              <a:rPr b="0" lang="en" sz="3600" spc="-1" strike="noStrike">
                <a:solidFill>
                  <a:srgbClr val="006666"/>
                </a:solidFill>
                <a:latin typeface="Times New Roman"/>
              </a:rPr>
              <a: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12-lead Electrocardiography signal</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Noninvasive procedure for recording electrical changes in the hear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Measuring and diagnosing electrocardiographic waveform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Recording heart frequenc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Sync collection for 12-lead ECG, multiply printing formats, including:</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	</a:t>
            </a:r>
            <a:r>
              <a:rPr b="1" lang="en" sz="1800" spc="-1" strike="noStrike">
                <a:solidFill>
                  <a:srgbClr val="003366"/>
                </a:solidFill>
                <a:latin typeface="Times New Roman"/>
              </a:rPr>
              <a:t>2×6+1(rhythm lead), 2×6, 3×4, 3×4+1(rhythm lead), 4×3, 4×3+1(rhythm lead),  6×2, 6×2+1(rhythm lead), rhythm 2, rhythm 3, rhythm 4, rhythm 5, rhythm 6, rhythm 7, channel record, etc.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Hypertrophy on the left and right hear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Disorders of cardiac rhythms and conduction</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Left axis deviation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Right axis deviation </a:t>
            </a:r>
            <a:endParaRPr b="0" lang="en-US" sz="18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Abnormal t wave</a:t>
            </a:r>
            <a:r>
              <a:rPr b="1" lang="en-US" sz="1200" spc="-1" strike="noStrike">
                <a:solidFill>
                  <a:srgbClr val="003366"/>
                </a:solidFill>
                <a:latin typeface="Times New Roman"/>
              </a:rPr>
              <a:t> </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Methods-12 Leads Electrocardiography</a:t>
            </a:r>
            <a:endParaRPr b="1" lang="en-US" sz="3200" spc="-1" strike="noStrike">
              <a:solidFill>
                <a:srgbClr val="006666"/>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9"/>
                    </p:tgtEl>
                  </p:cond>
                </p:stCondLst>
                <p:childTnLst>
                  <p:par>
                    <p:cTn id="3" fill="hold">
                      <p:stCondLst>
                        <p:cond evt="onClick">
                          <p:tgtEl>
                            <p:spTgt spid="10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Methods–Color Doppler Echocardiography</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Noninvasive </a:t>
            </a:r>
            <a:r>
              <a:rPr b="1" lang="en-US" sz="1800" spc="-1" strike="noStrike">
                <a:solidFill>
                  <a:srgbClr val="003366"/>
                </a:solidFill>
                <a:latin typeface="Times New Roman"/>
              </a:rPr>
              <a:t>procedur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No known risks or side effect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S</a:t>
            </a:r>
            <a:r>
              <a:rPr b="1" lang="en-US" sz="1800" spc="-1" strike="noStrike">
                <a:solidFill>
                  <a:srgbClr val="003366"/>
                </a:solidFill>
                <a:latin typeface="Times New Roman"/>
              </a:rPr>
              <a:t>how the size, shape, and movement of the heart's valves and chamber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Flow of blood through the hear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Detect abnormalities in the pattern of blood flow</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Presence and assess the severity of coronary artery disease</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Left ventricular dysfunction (systolic or diastolic)</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Right ventricular dysfunction ( systolic or diastolic)</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Diseases of the heart valve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Detection  calcifications on atrioventricular valves ( tricuspid valve and mitral valv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3366"/>
                </a:solidFill>
                <a:latin typeface="Times New Roman"/>
              </a:rPr>
              <a:t>Detection calcifications on pulmonary and aortic valve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Treatment ( &gt;2670 prescriptions in 2017)</a:t>
            </a:r>
            <a:endParaRPr b="1" lang="en-US" sz="3200" spc="-1" strike="noStrike">
              <a:solidFill>
                <a:srgbClr val="006666"/>
              </a:solidFill>
              <a:latin typeface="Arial"/>
            </a:endParaRPr>
          </a:p>
        </p:txBody>
      </p:sp>
      <p:graphicFrame>
        <p:nvGraphicFramePr>
          <p:cNvPr id="113" name=""/>
          <p:cNvGraphicFramePr/>
          <p:nvPr/>
        </p:nvGraphicFramePr>
        <p:xfrm>
          <a:off x="765000" y="2409840"/>
          <a:ext cx="8220240" cy="3780000"/>
        </p:xfrm>
        <a:graphic>
          <a:graphicData uri="http://schemas.openxmlformats.org/presentationml/2006/ole">
            <p:oleObj progId="Excel.Sheet.12" r:id="rId1" spid="">
              <p:embed/>
              <p:pic>
                <p:nvPicPr>
                  <p:cNvPr id="114" name="" descr=""/>
                  <p:cNvPicPr/>
                  <p:nvPr/>
                </p:nvPicPr>
                <p:blipFill>
                  <a:blip r:embed="rId2"/>
                  <a:stretch/>
                </p:blipFill>
                <p:spPr>
                  <a:xfrm>
                    <a:off x="765000" y="2409840"/>
                    <a:ext cx="8220240" cy="378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02T13:25:02Z</dcterms:created>
  <dc:creator>HPC</dc:creator>
  <dc:description/>
  <dc:language>en-US</dc:language>
  <cp:lastModifiedBy>HPC</cp:lastModifiedBy>
  <dcterms:modified xsi:type="dcterms:W3CDTF">2017-10-07T19:07:58Z</dcterms:modified>
  <cp:revision>70</cp:revision>
  <dc:subject/>
  <dc:title>Diagnosis and Treatment of Patients with Cardiovascular Diseases </dc:title>
</cp:coreProperties>
</file>