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28.png" ContentType="image/png"/>
  <Override PartName="/ppt/media/image8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BC143-01B6-485B-9679-F04AFD803C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ing platform for nanoscale patterns on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177FA-05E2-4DBC-BF9C-15C80E220894}" type="slidenum">
              <a:rPr b="0" lang="en-GB" sz="1200" spc="-1" strike="noStrike">
                <a:solidFill>
                  <a:srgbClr val="14131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41313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nopatterns are basically a spatially correlated distribution of nanoscale features on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D3745-18F9-45D2-ABAE-5D1F323BE11F}" type="slidenum">
              <a:rPr b="0" lang="en-GB" sz="1200" spc="-1" strike="noStrike">
                <a:solidFill>
                  <a:srgbClr val="14131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41313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C4A-CA85-4A15-806E-5966E2C1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BE9-461D-4DA6-A620-F53E5DA9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C8B-FD52-4ABD-BFF2-98795A12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21D-6D1A-4A0A-AEE4-45FA6211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18B-AF8D-4EF6-97EE-FAEE4ABC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D11-1733-43B6-9E15-7FD350B4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79C-E54C-4D36-941F-D781B7F6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BFA-3075-495F-A0A1-BDF2F2D2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919-4906-432F-8B6D-C08BA083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9A6-9A36-4D63-9935-B9F8914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06C-6571-4831-9577-688C6710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8D2-DD9B-4D94-A838-8352B0F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880" y="6211800"/>
            <a:ext cx="117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LU" sz="1200" spc="-1" strike="noStrike">
                <a:solidFill>
                  <a:srgbClr val="000000"/>
                </a:solidFill>
                <a:latin typeface="BentonSans Book"/>
                <a:ea typeface="Benton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305A0-FE98-444C-B95D-E22B6424D63E}" type="datetime">
              <a:rPr b="0" lang="fr-LU" sz="1200" spc="-1" strike="noStrike">
                <a:solidFill>
                  <a:srgbClr val="000000"/>
                </a:solidFill>
                <a:latin typeface="BentonSans Book"/>
                <a:ea typeface="BentonSans Book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211800"/>
            <a:ext cx="440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07120" y="6211800"/>
            <a:ext cx="8636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Benton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97C47-6071-46B1-9B34-A310ABB8E7D8}" type="slidenum">
              <a:rPr b="0" lang="fr-FR" sz="1200" spc="-1" strike="noStrike">
                <a:solidFill>
                  <a:srgbClr val="000000"/>
                </a:solidFill>
                <a:latin typeface="BentonSans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6" descr="sphere.png"/>
          <p:cNvPicPr/>
          <p:nvPr/>
        </p:nvPicPr>
        <p:blipFill>
          <a:blip r:embed="rId2"/>
          <a:stretch/>
        </p:blipFill>
        <p:spPr>
          <a:xfrm>
            <a:off x="-4292640" y="-1695600"/>
            <a:ext cx="9691560" cy="10503000"/>
          </a:xfrm>
          <a:prstGeom prst="rect">
            <a:avLst/>
          </a:prstGeom>
          <a:ln w="0">
            <a:noFill/>
          </a:ln>
        </p:spPr>
      </p:pic>
      <p:pic>
        <p:nvPicPr>
          <p:cNvPr id="42" name="Image 8" descr="logo_LIST_PPT.png"/>
          <p:cNvPicPr/>
          <p:nvPr/>
        </p:nvPicPr>
        <p:blipFill>
          <a:blip r:embed="rId3"/>
          <a:stretch/>
        </p:blipFill>
        <p:spPr>
          <a:xfrm>
            <a:off x="5554800" y="5418000"/>
            <a:ext cx="2979720" cy="973440"/>
          </a:xfrm>
          <a:prstGeom prst="rect">
            <a:avLst/>
          </a:prstGeom>
          <a:ln w="0">
            <a:noFill/>
          </a:ln>
        </p:spPr>
      </p:pic>
      <p:pic>
        <p:nvPicPr>
          <p:cNvPr id="43" name="Image 7" descr="trait_noir.png"/>
          <p:cNvPicPr/>
          <p:nvPr/>
        </p:nvPicPr>
        <p:blipFill>
          <a:blip r:embed="rId4"/>
          <a:stretch/>
        </p:blipFill>
        <p:spPr>
          <a:xfrm>
            <a:off x="1689120" y="0"/>
            <a:ext cx="46080" cy="4788000"/>
          </a:xfrm>
          <a:prstGeom prst="rect">
            <a:avLst/>
          </a:prstGeom>
          <a:ln w="0">
            <a:noFill/>
          </a:ln>
        </p:spPr>
      </p:pic>
      <p:pic>
        <p:nvPicPr>
          <p:cNvPr id="44" name="Image 9" descr="trait_bleu.png"/>
          <p:cNvPicPr/>
          <p:nvPr/>
        </p:nvPicPr>
        <p:blipFill>
          <a:blip r:embed="rId5"/>
          <a:stretch/>
        </p:blipFill>
        <p:spPr>
          <a:xfrm>
            <a:off x="2106720" y="3957480"/>
            <a:ext cx="390240" cy="46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039400" y="3575160"/>
            <a:ext cx="117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L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A8E81-B189-4859-AD18-4614DACD8F70}" type="datetime">
              <a:rPr b="0" lang="fr-LU" sz="12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85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87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128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171" name="Image 7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172" name="Image 8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173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174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214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215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216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 10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257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258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259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260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300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302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ivashankar.krishnamoorthy@list.lu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s://www.google.com/url?sa=i&amp;rct=j&amp;q=&amp;esrc=s&amp;frm=1&amp;source=images&amp;cd=&amp;cad=rja&amp;uact=8&amp;ved=0CAcQjRxqFQoTCMmXoLuMkskCFQNeGgodaK0ERA&amp;url=https%3A%2F%2Fbiosensing.wordpress.com%2Ftag%2Fbiosensor%2F&amp;psig=AFQjCNHdHisN4oZ1H196jT9aHsZUfItujg&amp;ust=1447665431684078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22.png"/><Relationship Id="rId4" Type="http://schemas.openxmlformats.org/officeDocument/2006/relationships/image" Target="../media/image18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79280" y="2847960"/>
            <a:ext cx="702468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141313"/>
                </a:solidFill>
                <a:latin typeface="Arial"/>
              </a:rPr>
              <a:t>CONTROLLED NANOSCALE TOPOGRAPHY AND CHEMISTRY FOR BIOMATERIAL INTERFACE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2046960" y="4221000"/>
            <a:ext cx="43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141313"/>
                </a:solidFill>
                <a:latin typeface="Calibri"/>
              </a:rPr>
              <a:t>Dr. Sivashankar Krishnamoorthy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a0ae"/>
                </a:solidFill>
                <a:uFillTx/>
                <a:latin typeface="Calibri"/>
                <a:hlinkClick r:id="rId1"/>
              </a:rPr>
              <a:t>Sivashankar.krishnamoorthy@list.lu</a:t>
            </a:r>
            <a:r>
              <a:rPr b="0" lang="en-US" sz="2200" spc="-1" strike="noStrike">
                <a:solidFill>
                  <a:srgbClr val="141313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79200" y="6202440"/>
            <a:ext cx="55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200" spc="-1" strike="noStrike">
                <a:solidFill>
                  <a:srgbClr val="141313"/>
                </a:solidFill>
                <a:latin typeface="Calibri"/>
              </a:rPr>
              <a:t>COST Action Meeting BIONECA, </a:t>
            </a:r>
            <a:endParaRPr b="0" lang="en-US" sz="1200" spc="-1" strike="noStrike">
              <a:solidFill>
                <a:srgbClr val="141313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141313"/>
                </a:solidFill>
                <a:latin typeface="Calibri"/>
              </a:rPr>
              <a:t>October 2017, Bucharest </a:t>
            </a:r>
            <a:endParaRPr b="0" lang="en-US" sz="1200" spc="-1" strike="noStrike">
              <a:solidFill>
                <a:srgbClr val="141313"/>
              </a:solidFill>
              <a:latin typeface="Calibri"/>
            </a:endParaRPr>
          </a:p>
        </p:txBody>
      </p:sp>
      <p:pic>
        <p:nvPicPr>
          <p:cNvPr id="352" name="Picture 15" descr=""/>
          <p:cNvPicPr/>
          <p:nvPr/>
        </p:nvPicPr>
        <p:blipFill>
          <a:blip r:embed="rId2"/>
          <a:stretch/>
        </p:blipFill>
        <p:spPr>
          <a:xfrm>
            <a:off x="109440" y="5315040"/>
            <a:ext cx="3633840" cy="91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"/>
          <p:cNvPicPr/>
          <p:nvPr/>
        </p:nvPicPr>
        <p:blipFill>
          <a:blip r:embed="rId3"/>
          <a:stretch/>
        </p:blipFill>
        <p:spPr>
          <a:xfrm>
            <a:off x="0" y="244440"/>
            <a:ext cx="90327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39"/>
          <p:cNvGrpSpPr/>
          <p:nvPr/>
        </p:nvGrpSpPr>
        <p:grpSpPr>
          <a:xfrm>
            <a:off x="4235400" y="4456080"/>
            <a:ext cx="4870440" cy="2516400"/>
            <a:chOff x="4235400" y="4456080"/>
            <a:chExt cx="4870440" cy="2516400"/>
          </a:xfrm>
        </p:grpSpPr>
        <p:pic>
          <p:nvPicPr>
            <p:cNvPr id="355" name="Picture 140" descr="http://www.physorg.com/newman/gfx/news/14-researchersc.jpg"/>
            <p:cNvPicPr/>
            <p:nvPr/>
          </p:nvPicPr>
          <p:blipFill>
            <a:blip r:embed="rId1"/>
            <a:stretch/>
          </p:blipFill>
          <p:spPr>
            <a:xfrm>
              <a:off x="4303440" y="4530600"/>
              <a:ext cx="1280880" cy="19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http://physics.illinois.edu/people/aksimentiev/Aksimentiev_nanopore.jpg"/>
            <p:cNvPicPr/>
            <p:nvPr/>
          </p:nvPicPr>
          <p:blipFill>
            <a:blip r:embed="rId2"/>
            <a:stretch/>
          </p:blipFill>
          <p:spPr>
            <a:xfrm>
              <a:off x="5508000" y="5292360"/>
              <a:ext cx="111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Rectangle 142"/>
            <p:cNvSpPr/>
            <p:nvPr/>
          </p:nvSpPr>
          <p:spPr>
            <a:xfrm>
              <a:off x="4235400" y="6513480"/>
              <a:ext cx="289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Aleksei Aksimentiev group page, UIUC</a:t>
              </a:r>
              <a:endParaRPr b="0" lang="en-US" sz="1200" spc="-1" strike="noStrike">
                <a:solidFill>
                  <a:srgbClr val="141313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58" name="TextBox 143"/>
            <p:cNvSpPr/>
            <p:nvPr/>
          </p:nvSpPr>
          <p:spPr>
            <a:xfrm>
              <a:off x="5376600" y="4474800"/>
              <a:ext cx="160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Nanosieves</a:t>
              </a:r>
              <a:endParaRPr b="0" lang="en-US" sz="20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59" name="TextBox 144"/>
            <p:cNvSpPr/>
            <p:nvPr/>
          </p:nvSpPr>
          <p:spPr>
            <a:xfrm>
              <a:off x="6861240" y="4456080"/>
              <a:ext cx="215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igh surface area biosensors</a:t>
              </a:r>
              <a:endParaRPr b="0" lang="en-US" sz="20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pic>
          <p:nvPicPr>
            <p:cNvPr id="360" name="Picture 2" descr="https://biosensing.files.wordpress.com/2009/10/102909_0437_biosensingu1.png?w=500">
              <a:hlinkClick r:id="rId3"/>
            </p:cNvPr>
            <p:cNvPicPr/>
            <p:nvPr/>
          </p:nvPicPr>
          <p:blipFill>
            <a:blip r:embed="rId4"/>
            <a:srcRect l="0" t="54776" r="0" b="8897"/>
            <a:stretch/>
          </p:blipFill>
          <p:spPr>
            <a:xfrm>
              <a:off x="6750360" y="5853240"/>
              <a:ext cx="23554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" descr="https://biosensing.files.wordpress.com/2009/10/102909_0437_biosensingu1.png?w=500"/>
            <p:cNvPicPr/>
            <p:nvPr/>
          </p:nvPicPr>
          <p:blipFill>
            <a:blip r:embed="rId5"/>
            <a:srcRect l="38328" t="6441" r="34148" b="68163"/>
            <a:stretch/>
          </p:blipFill>
          <p:spPr>
            <a:xfrm>
              <a:off x="6838920" y="5163840"/>
              <a:ext cx="94140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147"/>
            <p:cNvSpPr/>
            <p:nvPr/>
          </p:nvSpPr>
          <p:spPr>
            <a:xfrm>
              <a:off x="6915240" y="6581880"/>
              <a:ext cx="217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41313"/>
                  </a:solidFill>
                  <a:latin typeface="Calibri"/>
                </a:rPr>
                <a:t>biosensing.wordpress.com359 </a:t>
              </a:r>
              <a:endParaRPr b="0" lang="en-US" sz="1200" spc="-1" strike="noStrike">
                <a:solidFill>
                  <a:srgbClr val="141313"/>
                </a:solidFill>
                <a:latin typeface="Calibri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84280" y="725400"/>
            <a:ext cx="6299280" cy="4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Know-How</a:t>
            </a:r>
            <a:endParaRPr b="0" lang="en-US" sz="2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583920" y="171360"/>
            <a:ext cx="74358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41313"/>
                </a:solidFill>
                <a:latin typeface="Arial"/>
              </a:rPr>
              <a:t>NANO-ENABLED BIO-INTERFACE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</p:txBody>
      </p:sp>
      <p:grpSp>
        <p:nvGrpSpPr>
          <p:cNvPr id="365" name="Group 28689"/>
          <p:cNvGrpSpPr/>
          <p:nvPr/>
        </p:nvGrpSpPr>
        <p:grpSpPr>
          <a:xfrm>
            <a:off x="212760" y="1000080"/>
            <a:ext cx="4875120" cy="5749200"/>
            <a:chOff x="212760" y="1000080"/>
            <a:chExt cx="4875120" cy="5749200"/>
          </a:xfrm>
        </p:grpSpPr>
        <p:pic>
          <p:nvPicPr>
            <p:cNvPr id="366" name="Picture 4" descr="Abstract Image"/>
            <p:cNvPicPr/>
            <p:nvPr/>
          </p:nvPicPr>
          <p:blipFill>
            <a:blip r:embed="rId6"/>
            <a:stretch/>
          </p:blipFill>
          <p:spPr>
            <a:xfrm>
              <a:off x="326160" y="4140360"/>
              <a:ext cx="4280760" cy="17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Box 5"/>
            <p:cNvSpPr/>
            <p:nvPr/>
          </p:nvSpPr>
          <p:spPr>
            <a:xfrm>
              <a:off x="468360" y="2904840"/>
              <a:ext cx="413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nhance biomolecular Density, Kinetics, Orientation, Conformation</a:t>
              </a:r>
              <a:endParaRPr b="0" lang="en-US" sz="20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68" name="Rectangle 20"/>
            <p:cNvSpPr/>
            <p:nvPr/>
          </p:nvSpPr>
          <p:spPr>
            <a:xfrm>
              <a:off x="467640" y="6381000"/>
              <a:ext cx="233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141313"/>
                  </a:solidFill>
                  <a:latin typeface="Calibri"/>
                </a:rPr>
                <a:t>PNAS, 2010, 107, 6264</a:t>
              </a: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pic>
          <p:nvPicPr>
            <p:cNvPr id="369" name="Picture 2" descr=""/>
            <p:cNvPicPr/>
            <p:nvPr/>
          </p:nvPicPr>
          <p:blipFill>
            <a:blip r:embed="rId7"/>
            <a:stretch/>
          </p:blipFill>
          <p:spPr>
            <a:xfrm>
              <a:off x="650160" y="1400040"/>
              <a:ext cx="2874600" cy="15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ectangle 22"/>
            <p:cNvSpPr/>
            <p:nvPr/>
          </p:nvSpPr>
          <p:spPr>
            <a:xfrm>
              <a:off x="665280" y="3514680"/>
              <a:ext cx="27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Adv. Mater. 2008, 20, 2782</a:t>
              </a: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71" name="TextBox 25"/>
            <p:cNvSpPr/>
            <p:nvPr/>
          </p:nvSpPr>
          <p:spPr>
            <a:xfrm>
              <a:off x="212760" y="1000080"/>
              <a:ext cx="48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ngineered Bio-interfaces</a:t>
              </a:r>
              <a:endParaRPr b="0" lang="en-US" sz="24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72" name="TextBox 5"/>
            <p:cNvSpPr/>
            <p:nvPr/>
          </p:nvSpPr>
          <p:spPr>
            <a:xfrm>
              <a:off x="268200" y="5884920"/>
              <a:ext cx="43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udy/Influence cell-behavior</a:t>
              </a:r>
              <a:endParaRPr b="0" lang="en-US" sz="2000" spc="-1" strike="noStrike">
                <a:solidFill>
                  <a:srgbClr val="141313"/>
                </a:solidFill>
                <a:latin typeface="Calibri"/>
              </a:endParaRPr>
            </a:p>
          </p:txBody>
        </p:sp>
      </p:grpSp>
      <p:grpSp>
        <p:nvGrpSpPr>
          <p:cNvPr id="373" name="Group 28672"/>
          <p:cNvGrpSpPr/>
          <p:nvPr/>
        </p:nvGrpSpPr>
        <p:grpSpPr>
          <a:xfrm>
            <a:off x="-36360" y="1071720"/>
            <a:ext cx="4640040" cy="5770440"/>
            <a:chOff x="-36360" y="1071720"/>
            <a:chExt cx="4640040" cy="5770440"/>
          </a:xfrm>
        </p:grpSpPr>
        <p:sp>
          <p:nvSpPr>
            <p:cNvPr id="374" name="Rectangle 27"/>
            <p:cNvSpPr/>
            <p:nvPr/>
          </p:nvSpPr>
          <p:spPr>
            <a:xfrm>
              <a:off x="-36360" y="1071720"/>
              <a:ext cx="4640040" cy="573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grpSp>
          <p:nvGrpSpPr>
            <p:cNvPr id="375" name="Group 28671"/>
            <p:cNvGrpSpPr/>
            <p:nvPr/>
          </p:nvGrpSpPr>
          <p:grpSpPr>
            <a:xfrm>
              <a:off x="44640" y="1117080"/>
              <a:ext cx="3964320" cy="5725080"/>
              <a:chOff x="44640" y="1117080"/>
              <a:chExt cx="3964320" cy="5725080"/>
            </a:xfrm>
          </p:grpSpPr>
          <p:grpSp>
            <p:nvGrpSpPr>
              <p:cNvPr id="376" name="Group 72"/>
              <p:cNvGrpSpPr/>
              <p:nvPr/>
            </p:nvGrpSpPr>
            <p:grpSpPr>
              <a:xfrm>
                <a:off x="473040" y="1117080"/>
                <a:ext cx="3265560" cy="2489040"/>
                <a:chOff x="473040" y="1117080"/>
                <a:chExt cx="3265560" cy="2489040"/>
              </a:xfrm>
            </p:grpSpPr>
            <p:sp>
              <p:nvSpPr>
                <p:cNvPr id="377" name="TextBox 17"/>
                <p:cNvSpPr/>
                <p:nvPr/>
              </p:nvSpPr>
              <p:spPr>
                <a:xfrm>
                  <a:off x="2123280" y="111708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3600" spc="-1" strike="noStrike">
                      <a:solidFill>
                        <a:srgbClr val="14131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36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cxnSp>
              <p:nvCxnSpPr>
                <p:cNvPr id="378" name="Straight Arrow Connector 50"/>
                <p:cNvCxnSpPr/>
                <p:nvPr/>
              </p:nvCxnSpPr>
              <p:spPr>
                <a:xfrm>
                  <a:off x="1176120" y="2010960"/>
                  <a:ext cx="457920" cy="1080"/>
                </a:xfrm>
                <a:prstGeom prst="straightConnector1">
                  <a:avLst/>
                </a:prstGeom>
                <a:ln w="28440">
                  <a:solidFill>
                    <a:srgbClr val="00b050"/>
                  </a:solidFill>
                  <a:miter/>
                  <a:headEnd len="med" type="arrow" w="med"/>
                  <a:tailEnd len="med" type="arrow" w="med"/>
                </a:ln>
              </p:spPr>
            </p:cxnSp>
            <p:cxnSp>
              <p:nvCxnSpPr>
                <p:cNvPr id="379" name="Straight Arrow Connector 51"/>
                <p:cNvCxnSpPr/>
                <p:nvPr/>
              </p:nvCxnSpPr>
              <p:spPr>
                <a:xfrm>
                  <a:off x="1865160" y="1793520"/>
                  <a:ext cx="924480" cy="1080"/>
                </a:xfrm>
                <a:prstGeom prst="straightConnector1">
                  <a:avLst/>
                </a:prstGeom>
                <a:ln w="28440">
                  <a:solidFill>
                    <a:srgbClr val="1c03d5"/>
                  </a:solidFill>
                  <a:miter/>
                  <a:headEnd len="med" type="arrow" w="med"/>
                  <a:tailEnd len="med" type="arrow" w="med"/>
                </a:ln>
              </p:spPr>
            </p:cxnSp>
            <p:cxnSp>
              <p:nvCxnSpPr>
                <p:cNvPr id="380" name="Straight Arrow Connector 52"/>
                <p:cNvCxnSpPr/>
                <p:nvPr/>
              </p:nvCxnSpPr>
              <p:spPr>
                <a:xfrm flipV="1">
                  <a:off x="948600" y="2256840"/>
                  <a:ext cx="1080" cy="421200"/>
                </a:xfrm>
                <a:prstGeom prst="straightConnector1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  <a:tailEnd len="med" type="arrow" w="med"/>
                </a:ln>
              </p:spPr>
            </p:cxnSp>
            <p:sp>
              <p:nvSpPr>
                <p:cNvPr id="381" name="TextBox 50"/>
                <p:cNvSpPr/>
                <p:nvPr/>
              </p:nvSpPr>
              <p:spPr>
                <a:xfrm>
                  <a:off x="1215000" y="140868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3600" spc="-1" strike="noStrike">
                      <a:solidFill>
                        <a:srgbClr val="141313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36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382" name="TextBox 51"/>
                <p:cNvSpPr/>
                <p:nvPr/>
              </p:nvSpPr>
              <p:spPr>
                <a:xfrm>
                  <a:off x="473040" y="208368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3600" spc="-1" strike="noStrike">
                      <a:solidFill>
                        <a:srgbClr val="14131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36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grpSp>
              <p:nvGrpSpPr>
                <p:cNvPr id="383" name="Group 127"/>
                <p:cNvGrpSpPr/>
                <p:nvPr/>
              </p:nvGrpSpPr>
              <p:grpSpPr>
                <a:xfrm>
                  <a:off x="583560" y="2002320"/>
                  <a:ext cx="3155040" cy="1603800"/>
                  <a:chOff x="583560" y="2002320"/>
                  <a:chExt cx="3155040" cy="1603800"/>
                </a:xfrm>
              </p:grpSpPr>
              <p:sp>
                <p:nvSpPr>
                  <p:cNvPr id="384" name="Cube 61"/>
                  <p:cNvSpPr/>
                  <p:nvPr/>
                </p:nvSpPr>
                <p:spPr>
                  <a:xfrm>
                    <a:off x="583560" y="2239560"/>
                    <a:ext cx="3155040" cy="1366560"/>
                  </a:xfrm>
                  <a:prstGeom prst="cube">
                    <a:avLst>
                      <a:gd name="adj" fmla="val 69421"/>
                    </a:avLst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5" name="Flowchart: Magnetic Disk 62"/>
                  <p:cNvSpPr/>
                  <p:nvPr/>
                </p:nvSpPr>
                <p:spPr>
                  <a:xfrm>
                    <a:off x="1210680" y="2230200"/>
                    <a:ext cx="425880" cy="52920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6" name="Flowchart: Magnetic Disk 63"/>
                  <p:cNvSpPr/>
                  <p:nvPr/>
                </p:nvSpPr>
                <p:spPr>
                  <a:xfrm>
                    <a:off x="2458800" y="201168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7" name="Flowchart: Magnetic Disk 64"/>
                  <p:cNvSpPr/>
                  <p:nvPr/>
                </p:nvSpPr>
                <p:spPr>
                  <a:xfrm>
                    <a:off x="1725480" y="200232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8" name="Flowchart: Magnetic Disk 65"/>
                  <p:cNvSpPr/>
                  <p:nvPr/>
                </p:nvSpPr>
                <p:spPr>
                  <a:xfrm>
                    <a:off x="1951920" y="225720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9" name="Flowchart: Magnetic Disk 66"/>
                  <p:cNvSpPr/>
                  <p:nvPr/>
                </p:nvSpPr>
                <p:spPr>
                  <a:xfrm>
                    <a:off x="1315080" y="2557080"/>
                    <a:ext cx="42768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0" name="Flowchart: Magnetic Disk 67"/>
                  <p:cNvSpPr/>
                  <p:nvPr/>
                </p:nvSpPr>
                <p:spPr>
                  <a:xfrm>
                    <a:off x="2056680" y="255708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1" name="Flowchart: Magnetic Disk 68"/>
                  <p:cNvSpPr/>
                  <p:nvPr/>
                </p:nvSpPr>
                <p:spPr>
                  <a:xfrm>
                    <a:off x="2582280" y="234504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</p:grpSp>
          <p:pic>
            <p:nvPicPr>
              <p:cNvPr id="392" name="Picture 2" descr=""/>
              <p:cNvPicPr/>
              <p:nvPr/>
            </p:nvPicPr>
            <p:blipFill>
              <a:blip r:embed="rId8"/>
              <a:stretch/>
            </p:blipFill>
            <p:spPr>
              <a:xfrm>
                <a:off x="370440" y="4944960"/>
                <a:ext cx="2296800" cy="167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Picture 16" descr=""/>
              <p:cNvPicPr/>
              <p:nvPr/>
            </p:nvPicPr>
            <p:blipFill>
              <a:blip r:embed="rId9"/>
              <a:srcRect l="0" t="28288" r="0" b="5656"/>
              <a:stretch/>
            </p:blipFill>
            <p:spPr>
              <a:xfrm>
                <a:off x="44640" y="4467600"/>
                <a:ext cx="1266840" cy="83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3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91160" y="3823200"/>
                <a:ext cx="1117800" cy="10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89360" y="4860720"/>
                <a:ext cx="1119600" cy="11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Picture 5" descr=""/>
              <p:cNvPicPr/>
              <p:nvPr/>
            </p:nvPicPr>
            <p:blipFill>
              <a:blip r:embed="rId12"/>
              <a:stretch/>
            </p:blipFill>
            <p:spPr>
              <a:xfrm>
                <a:off x="3016080" y="5923800"/>
                <a:ext cx="992880" cy="91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7" name="Group 28680"/>
          <p:cNvGrpSpPr/>
          <p:nvPr/>
        </p:nvGrpSpPr>
        <p:grpSpPr>
          <a:xfrm>
            <a:off x="4307040" y="4467240"/>
            <a:ext cx="4740120" cy="2496960"/>
            <a:chOff x="4307040" y="4467240"/>
            <a:chExt cx="4740120" cy="2496960"/>
          </a:xfrm>
        </p:grpSpPr>
        <p:grpSp>
          <p:nvGrpSpPr>
            <p:cNvPr id="398" name="Group 28679"/>
            <p:cNvGrpSpPr/>
            <p:nvPr/>
          </p:nvGrpSpPr>
          <p:grpSpPr>
            <a:xfrm>
              <a:off x="4307040" y="4467240"/>
              <a:ext cx="4740120" cy="2496960"/>
              <a:chOff x="4307040" y="4467240"/>
              <a:chExt cx="4740120" cy="2496960"/>
            </a:xfrm>
          </p:grpSpPr>
          <p:sp>
            <p:nvSpPr>
              <p:cNvPr id="399" name="Rectangle 29"/>
              <p:cNvSpPr/>
              <p:nvPr/>
            </p:nvSpPr>
            <p:spPr>
              <a:xfrm>
                <a:off x="4307040" y="4566240"/>
                <a:ext cx="4740120" cy="239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grpSp>
            <p:nvGrpSpPr>
              <p:cNvPr id="400" name="Group 30"/>
              <p:cNvGrpSpPr/>
              <p:nvPr/>
            </p:nvGrpSpPr>
            <p:grpSpPr>
              <a:xfrm>
                <a:off x="5281200" y="4467240"/>
                <a:ext cx="3727800" cy="2346120"/>
                <a:chOff x="5281200" y="4467240"/>
                <a:chExt cx="3727800" cy="2346120"/>
              </a:xfrm>
            </p:grpSpPr>
            <p:sp>
              <p:nvSpPr>
                <p:cNvPr id="401" name="TextBox 23"/>
                <p:cNvSpPr/>
                <p:nvPr/>
              </p:nvSpPr>
              <p:spPr>
                <a:xfrm>
                  <a:off x="5281200" y="4467240"/>
                  <a:ext cx="2253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141313"/>
                      </a:solidFill>
                      <a:latin typeface="Calibri"/>
                    </a:rPr>
                    <a:t>Porous Interfaces</a:t>
                  </a:r>
                  <a:endParaRPr b="0" lang="en-US" sz="20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grpSp>
              <p:nvGrpSpPr>
                <p:cNvPr id="402" name="Group 34"/>
                <p:cNvGrpSpPr/>
                <p:nvPr/>
              </p:nvGrpSpPr>
              <p:grpSpPr>
                <a:xfrm>
                  <a:off x="5857200" y="5770080"/>
                  <a:ext cx="1145880" cy="1043280"/>
                  <a:chOff x="5857200" y="5770080"/>
                  <a:chExt cx="1145880" cy="1043280"/>
                </a:xfrm>
              </p:grpSpPr>
              <p:pic>
                <p:nvPicPr>
                  <p:cNvPr id="403" name="Picture 31" descr="sio2_100nmpoly.tif"/>
                  <p:cNvPicPr/>
                  <p:nvPr/>
                </p:nvPicPr>
                <p:blipFill>
                  <a:blip r:embed="rId13"/>
                  <a:srcRect l="29951" t="46603" r="45251" b="23333"/>
                  <a:stretch/>
                </p:blipFill>
                <p:spPr>
                  <a:xfrm>
                    <a:off x="5857200" y="5770080"/>
                    <a:ext cx="114588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4" name="Straight Connector 36"/>
                  <p:cNvSpPr/>
                  <p:nvPr/>
                </p:nvSpPr>
                <p:spPr>
                  <a:xfrm>
                    <a:off x="6456600" y="6718320"/>
                    <a:ext cx="2300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5" name="TextBox 8"/>
                  <p:cNvSpPr/>
                  <p:nvPr/>
                </p:nvSpPr>
                <p:spPr>
                  <a:xfrm>
                    <a:off x="6302160" y="6411240"/>
                    <a:ext cx="654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200 nm</a:t>
                    </a:r>
                    <a:endParaRPr b="0" lang="en-US" sz="12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06" name="TextBox 23"/>
                <p:cNvSpPr/>
                <p:nvPr/>
              </p:nvSpPr>
              <p:spPr>
                <a:xfrm>
                  <a:off x="7196400" y="4588920"/>
                  <a:ext cx="18126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141313"/>
                      </a:solidFill>
                      <a:latin typeface="Calibri"/>
                    </a:rPr>
                    <a:t>Enhanced Surfaces</a:t>
                  </a:r>
                  <a:endParaRPr b="0" lang="en-US" sz="20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407" name="Picture 8" descr=""/>
              <p:cNvPicPr/>
              <p:nvPr/>
            </p:nvPicPr>
            <p:blipFill>
              <a:blip r:embed="rId14"/>
              <a:srcRect l="5151" t="50008" r="47358" b="4123"/>
              <a:stretch/>
            </p:blipFill>
            <p:spPr>
              <a:xfrm>
                <a:off x="4738680" y="5762520"/>
                <a:ext cx="1074960" cy="1038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8" name="Picture 2" descr="D:\RESEARCH\DATA\SEM\Si structures\20100127\30+15deg-2.jpg"/>
            <p:cNvPicPr/>
            <p:nvPr/>
          </p:nvPicPr>
          <p:blipFill>
            <a:blip r:embed="rId15"/>
            <a:srcRect l="33340" t="67672" r="53793" b="20698"/>
            <a:stretch/>
          </p:blipFill>
          <p:spPr>
            <a:xfrm>
              <a:off x="7308720" y="5386320"/>
              <a:ext cx="1584360" cy="11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9" name="Group 6"/>
          <p:cNvGrpSpPr/>
          <p:nvPr/>
        </p:nvGrpSpPr>
        <p:grpSpPr>
          <a:xfrm>
            <a:off x="4305240" y="892080"/>
            <a:ext cx="4654440" cy="3402000"/>
            <a:chOff x="4305240" y="892080"/>
            <a:chExt cx="4654440" cy="3402000"/>
          </a:xfrm>
        </p:grpSpPr>
        <p:grpSp>
          <p:nvGrpSpPr>
            <p:cNvPr id="410" name="Group 28677"/>
            <p:cNvGrpSpPr/>
            <p:nvPr/>
          </p:nvGrpSpPr>
          <p:grpSpPr>
            <a:xfrm>
              <a:off x="4305240" y="892080"/>
              <a:ext cx="4370400" cy="3183480"/>
              <a:chOff x="4305240" y="892080"/>
              <a:chExt cx="4370400" cy="3183480"/>
            </a:xfrm>
          </p:grpSpPr>
          <p:sp>
            <p:nvSpPr>
              <p:cNvPr id="411" name="Rectangle 1"/>
              <p:cNvSpPr/>
              <p:nvPr/>
            </p:nvSpPr>
            <p:spPr>
              <a:xfrm>
                <a:off x="4628880" y="892080"/>
                <a:ext cx="4046760" cy="311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grpSp>
            <p:nvGrpSpPr>
              <p:cNvPr id="412" name="Group 10"/>
              <p:cNvGrpSpPr/>
              <p:nvPr/>
            </p:nvGrpSpPr>
            <p:grpSpPr>
              <a:xfrm>
                <a:off x="4305240" y="921600"/>
                <a:ext cx="3640680" cy="3153960"/>
                <a:chOff x="4305240" y="921600"/>
                <a:chExt cx="3640680" cy="3153960"/>
              </a:xfrm>
            </p:grpSpPr>
            <p:grpSp>
              <p:nvGrpSpPr>
                <p:cNvPr id="413" name="Group 11"/>
                <p:cNvGrpSpPr/>
                <p:nvPr/>
              </p:nvGrpSpPr>
              <p:grpSpPr>
                <a:xfrm>
                  <a:off x="4573440" y="921600"/>
                  <a:ext cx="3372480" cy="2730960"/>
                  <a:chOff x="4573440" y="921600"/>
                  <a:chExt cx="3372480" cy="2730960"/>
                </a:xfrm>
              </p:grpSpPr>
              <p:sp>
                <p:nvSpPr>
                  <p:cNvPr id="414" name="TextBox 13"/>
                  <p:cNvSpPr/>
                  <p:nvPr/>
                </p:nvSpPr>
                <p:spPr>
                  <a:xfrm>
                    <a:off x="5088240" y="921600"/>
                    <a:ext cx="252756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000000"/>
                        </a:solidFill>
                        <a:latin typeface="Arial"/>
                      </a:rPr>
                      <a:t>Plasmonic sensors</a:t>
                    </a:r>
                    <a:endParaRPr b="0" lang="en-US" sz="22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415" name="Picture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3440" y="1326960"/>
                    <a:ext cx="304884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6" name="Rectangle 15"/>
                  <p:cNvSpPr/>
                  <p:nvPr/>
                </p:nvSpPr>
                <p:spPr>
                  <a:xfrm>
                    <a:off x="5182200" y="2943360"/>
                    <a:ext cx="2763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PRL </a:t>
                    </a: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94,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017402 (2005)</a:t>
                    </a:r>
                    <a:endParaRPr b="0" lang="en-US" sz="16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17" name="TextBox 5"/>
                <p:cNvSpPr/>
                <p:nvPr/>
              </p:nvSpPr>
              <p:spPr>
                <a:xfrm>
                  <a:off x="4305240" y="3676680"/>
                  <a:ext cx="2641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LSPR, SERS sensors</a:t>
                  </a:r>
                  <a:endParaRPr b="0" lang="en-US" sz="20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18" name="Group 28682"/>
            <p:cNvGrpSpPr/>
            <p:nvPr/>
          </p:nvGrpSpPr>
          <p:grpSpPr>
            <a:xfrm>
              <a:off x="5020920" y="1374480"/>
              <a:ext cx="3938760" cy="2919600"/>
              <a:chOff x="5020920" y="1374480"/>
              <a:chExt cx="3938760" cy="2919600"/>
            </a:xfrm>
          </p:grpSpPr>
          <p:pic>
            <p:nvPicPr>
              <p:cNvPr id="419" name="Picture 6" descr=""/>
              <p:cNvPicPr/>
              <p:nvPr/>
            </p:nvPicPr>
            <p:blipFill>
              <a:blip r:embed="rId17">
                <a:lum contrast="20000"/>
              </a:blip>
              <a:stretch/>
            </p:blipFill>
            <p:spPr>
              <a:xfrm>
                <a:off x="7481880" y="1374480"/>
                <a:ext cx="1477800" cy="147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Group 170"/>
              <p:cNvGrpSpPr/>
              <p:nvPr/>
            </p:nvGrpSpPr>
            <p:grpSpPr>
              <a:xfrm>
                <a:off x="6987960" y="2921760"/>
                <a:ext cx="1971720" cy="1372320"/>
                <a:chOff x="6987960" y="2921760"/>
                <a:chExt cx="1971720" cy="1372320"/>
              </a:xfrm>
            </p:grpSpPr>
            <p:pic>
              <p:nvPicPr>
                <p:cNvPr id="421" name="Picture 12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987960" y="2921760"/>
                  <a:ext cx="1971720" cy="137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13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000560" y="4097160"/>
                  <a:ext cx="1959120" cy="19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3" name="Rectangle 28681"/>
              <p:cNvSpPr/>
              <p:nvPr/>
            </p:nvSpPr>
            <p:spPr>
              <a:xfrm>
                <a:off x="5020920" y="1729800"/>
                <a:ext cx="428400" cy="341280"/>
              </a:xfrm>
              <a:prstGeom prst="rect">
                <a:avLst/>
              </a:prstGeom>
              <a:noFill/>
              <a:ln w="38160">
                <a:solidFill>
                  <a:srgbClr val="c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</p:grpSp>
      <p:grpSp>
        <p:nvGrpSpPr>
          <p:cNvPr id="424" name="Group 5"/>
          <p:cNvGrpSpPr/>
          <p:nvPr/>
        </p:nvGrpSpPr>
        <p:grpSpPr>
          <a:xfrm>
            <a:off x="4503600" y="4727520"/>
            <a:ext cx="2072520" cy="976680"/>
            <a:chOff x="4503600" y="4727520"/>
            <a:chExt cx="2072520" cy="976680"/>
          </a:xfrm>
        </p:grpSpPr>
        <p:grpSp>
          <p:nvGrpSpPr>
            <p:cNvPr id="425" name="Group 1765"/>
            <p:cNvGrpSpPr/>
            <p:nvPr/>
          </p:nvGrpSpPr>
          <p:grpSpPr>
            <a:xfrm>
              <a:off x="5770800" y="4850280"/>
              <a:ext cx="805320" cy="787320"/>
              <a:chOff x="5770800" y="4850280"/>
              <a:chExt cx="805320" cy="787320"/>
            </a:xfrm>
          </p:grpSpPr>
          <p:grpSp>
            <p:nvGrpSpPr>
              <p:cNvPr id="426" name="Group 1026"/>
              <p:cNvGrpSpPr/>
              <p:nvPr/>
            </p:nvGrpSpPr>
            <p:grpSpPr>
              <a:xfrm>
                <a:off x="5770800" y="4850280"/>
                <a:ext cx="805320" cy="787320"/>
                <a:chOff x="5770800" y="4850280"/>
                <a:chExt cx="805320" cy="787320"/>
              </a:xfrm>
            </p:grpSpPr>
            <p:sp>
              <p:nvSpPr>
                <p:cNvPr id="427" name="Oval 79"/>
                <p:cNvSpPr/>
                <p:nvPr/>
              </p:nvSpPr>
              <p:spPr>
                <a:xfrm>
                  <a:off x="5875920" y="4967280"/>
                  <a:ext cx="581040" cy="554760"/>
                </a:xfrm>
                <a:prstGeom prst="ellipse">
                  <a:avLst/>
                </a:prstGeom>
                <a:solidFill>
                  <a:srgbClr val="ffffff"/>
                </a:solidFill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grpSp>
              <p:nvGrpSpPr>
                <p:cNvPr id="428" name="Group 414"/>
                <p:cNvGrpSpPr/>
                <p:nvPr/>
              </p:nvGrpSpPr>
              <p:grpSpPr>
                <a:xfrm>
                  <a:off x="5861520" y="4981680"/>
                  <a:ext cx="102240" cy="84960"/>
                  <a:chOff x="5861520" y="4981680"/>
                  <a:chExt cx="102240" cy="84960"/>
                </a:xfrm>
              </p:grpSpPr>
              <p:sp>
                <p:nvSpPr>
                  <p:cNvPr id="429" name="Flowchart: Connector 396"/>
                  <p:cNvSpPr/>
                  <p:nvPr/>
                </p:nvSpPr>
                <p:spPr>
                  <a:xfrm flipV="1" rot="20165400">
                    <a:off x="5865480" y="498528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30" name="Curved Connector 397"/>
                  <p:cNvCxnSpPr/>
                  <p:nvPr/>
                </p:nvCxnSpPr>
                <p:spPr>
                  <a:xfrm rot="10800000">
                    <a:off x="5885640" y="5011920"/>
                    <a:ext cx="22680" cy="19440"/>
                  </a:xfrm>
                  <a:prstGeom prst="curvedConnector4">
                    <a:avLst>
                      <a:gd name="adj1" fmla="val 37096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1" name="Curved Connector 398"/>
                  <p:cNvCxnSpPr/>
                  <p:nvPr/>
                </p:nvCxnSpPr>
                <p:spPr>
                  <a:xfrm rot="10800000">
                    <a:off x="5892840" y="5000040"/>
                    <a:ext cx="21960" cy="18360"/>
                  </a:xfrm>
                  <a:prstGeom prst="curvedConnector4">
                    <a:avLst>
                      <a:gd name="adj1" fmla="val 3333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2" name="Curved Connector 399"/>
                  <p:cNvCxnSpPr/>
                  <p:nvPr/>
                </p:nvCxnSpPr>
                <p:spPr>
                  <a:xfrm rot="10800000">
                    <a:off x="5918400" y="5018760"/>
                    <a:ext cx="22680" cy="19800"/>
                  </a:xfrm>
                  <a:prstGeom prst="curvedConnector4">
                    <a:avLst>
                      <a:gd name="adj1" fmla="val 3548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3" name="Curved Connector 400"/>
                  <p:cNvCxnSpPr/>
                  <p:nvPr/>
                </p:nvCxnSpPr>
                <p:spPr>
                  <a:xfrm rot="10800000">
                    <a:off x="5909040" y="5030640"/>
                    <a:ext cx="23760" cy="19080"/>
                  </a:xfrm>
                  <a:prstGeom prst="curvedConnector4">
                    <a:avLst>
                      <a:gd name="adj1" fmla="val 3538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34" name="Flowchart: Connector 401"/>
                  <p:cNvSpPr/>
                  <p:nvPr/>
                </p:nvSpPr>
                <p:spPr>
                  <a:xfrm flipV="1" rot="20165400">
                    <a:off x="5933880" y="503604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35" name="Group 415"/>
                <p:cNvGrpSpPr/>
                <p:nvPr/>
              </p:nvGrpSpPr>
              <p:grpSpPr>
                <a:xfrm>
                  <a:off x="5839560" y="5013720"/>
                  <a:ext cx="102240" cy="84600"/>
                  <a:chOff x="5839560" y="5013720"/>
                  <a:chExt cx="102240" cy="84600"/>
                </a:xfrm>
              </p:grpSpPr>
              <p:sp>
                <p:nvSpPr>
                  <p:cNvPr id="436" name="Flowchart: Connector 390"/>
                  <p:cNvSpPr/>
                  <p:nvPr/>
                </p:nvSpPr>
                <p:spPr>
                  <a:xfrm flipV="1" rot="20165400">
                    <a:off x="5843520" y="5017320"/>
                    <a:ext cx="2592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37" name="Curved Connector 391"/>
                  <p:cNvCxnSpPr/>
                  <p:nvPr/>
                </p:nvCxnSpPr>
                <p:spPr>
                  <a:xfrm rot="10800000">
                    <a:off x="5861160" y="5042880"/>
                    <a:ext cx="23760" cy="19440"/>
                  </a:xfrm>
                  <a:prstGeom prst="curvedConnector4">
                    <a:avLst>
                      <a:gd name="adj1" fmla="val 35384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8" name="Curved Connector 392"/>
                  <p:cNvCxnSpPr/>
                  <p:nvPr/>
                </p:nvCxnSpPr>
                <p:spPr>
                  <a:xfrm rot="10800000">
                    <a:off x="5871600" y="5029920"/>
                    <a:ext cx="24120" cy="19440"/>
                  </a:xfrm>
                  <a:prstGeom prst="curvedConnector4">
                    <a:avLst>
                      <a:gd name="adj1" fmla="val 36363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9" name="Curved Connector 393"/>
                  <p:cNvCxnSpPr/>
                  <p:nvPr/>
                </p:nvCxnSpPr>
                <p:spPr>
                  <a:xfrm rot="10800000">
                    <a:off x="5895720" y="5051160"/>
                    <a:ext cx="23760" cy="19440"/>
                  </a:xfrm>
                  <a:prstGeom prst="curvedConnector4">
                    <a:avLst>
                      <a:gd name="adj1" fmla="val 35384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40" name="Curved Connector 394"/>
                  <p:cNvCxnSpPr/>
                  <p:nvPr/>
                </p:nvCxnSpPr>
                <p:spPr>
                  <a:xfrm rot="10800000">
                    <a:off x="5886720" y="5062320"/>
                    <a:ext cx="23760" cy="19800"/>
                  </a:xfrm>
                  <a:prstGeom prst="curvedConnector4">
                    <a:avLst>
                      <a:gd name="adj1" fmla="val 3538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41" name="Flowchart: Connector 395"/>
                  <p:cNvSpPr/>
                  <p:nvPr/>
                </p:nvSpPr>
                <p:spPr>
                  <a:xfrm flipV="1" rot="20165400">
                    <a:off x="5911560" y="5068440"/>
                    <a:ext cx="2592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42" name="Group 416"/>
                <p:cNvGrpSpPr/>
                <p:nvPr/>
              </p:nvGrpSpPr>
              <p:grpSpPr>
                <a:xfrm>
                  <a:off x="5899680" y="4949640"/>
                  <a:ext cx="93600" cy="90360"/>
                  <a:chOff x="5899680" y="4949640"/>
                  <a:chExt cx="93600" cy="90360"/>
                </a:xfrm>
              </p:grpSpPr>
              <p:sp>
                <p:nvSpPr>
                  <p:cNvPr id="443" name="Flowchart: Connector 384"/>
                  <p:cNvSpPr/>
                  <p:nvPr/>
                </p:nvSpPr>
                <p:spPr>
                  <a:xfrm flipV="1" rot="20598000">
                    <a:off x="5902920" y="495216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44" name="Curved Connector 385"/>
                  <p:cNvCxnSpPr/>
                  <p:nvPr/>
                </p:nvCxnSpPr>
                <p:spPr>
                  <a:xfrm rot="10800000">
                    <a:off x="5919840" y="4975200"/>
                    <a:ext cx="20880" cy="22320"/>
                  </a:xfrm>
                  <a:prstGeom prst="curvedConnector4">
                    <a:avLst>
                      <a:gd name="adj1" fmla="val 33333"/>
                      <a:gd name="adj2" fmla="val 491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45" name="Curved Connector 386"/>
                  <p:cNvCxnSpPr/>
                  <p:nvPr/>
                </p:nvCxnSpPr>
                <p:spPr>
                  <a:xfrm rot="10800000">
                    <a:off x="5929200" y="4965480"/>
                    <a:ext cx="21600" cy="21600"/>
                  </a:xfrm>
                  <a:prstGeom prst="curvedConnector4">
                    <a:avLst>
                      <a:gd name="adj1" fmla="val 32203"/>
                      <a:gd name="adj2" fmla="val 4915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46" name="Curved Connector 387"/>
                  <p:cNvCxnSpPr/>
                  <p:nvPr/>
                </p:nvCxnSpPr>
                <p:spPr>
                  <a:xfrm rot="10800000">
                    <a:off x="5951520" y="4988520"/>
                    <a:ext cx="21240" cy="23400"/>
                  </a:xfrm>
                  <a:prstGeom prst="curvedConnector4">
                    <a:avLst>
                      <a:gd name="adj1" fmla="val 3448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47" name="Curved Connector 388"/>
                  <p:cNvCxnSpPr/>
                  <p:nvPr/>
                </p:nvCxnSpPr>
                <p:spPr>
                  <a:xfrm rot="10800000">
                    <a:off x="5942160" y="4998600"/>
                    <a:ext cx="20520" cy="21600"/>
                  </a:xfrm>
                  <a:prstGeom prst="curvedConnector4">
                    <a:avLst>
                      <a:gd name="adj1" fmla="val 32142"/>
                      <a:gd name="adj2" fmla="val 4915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48" name="Flowchart: Connector 389"/>
                  <p:cNvSpPr/>
                  <p:nvPr/>
                </p:nvSpPr>
                <p:spPr>
                  <a:xfrm flipV="1" rot="20598000">
                    <a:off x="5964840" y="501048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49" name="Group 417"/>
                <p:cNvGrpSpPr/>
                <p:nvPr/>
              </p:nvGrpSpPr>
              <p:grpSpPr>
                <a:xfrm>
                  <a:off x="5940360" y="4922280"/>
                  <a:ext cx="85320" cy="95040"/>
                  <a:chOff x="5940360" y="4922280"/>
                  <a:chExt cx="85320" cy="95040"/>
                </a:xfrm>
              </p:grpSpPr>
              <p:sp>
                <p:nvSpPr>
                  <p:cNvPr id="450" name="Flowchart: Connector 378"/>
                  <p:cNvSpPr/>
                  <p:nvPr/>
                </p:nvSpPr>
                <p:spPr>
                  <a:xfrm flipV="1" rot="20945400">
                    <a:off x="5942520" y="492408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51" name="Curved Connector 379"/>
                  <p:cNvCxnSpPr/>
                  <p:nvPr/>
                </p:nvCxnSpPr>
                <p:spPr>
                  <a:xfrm rot="10800000">
                    <a:off x="5956200" y="4950000"/>
                    <a:ext cx="18720" cy="25920"/>
                  </a:xfrm>
                  <a:prstGeom prst="curvedConnector4">
                    <a:avLst>
                      <a:gd name="adj1" fmla="val 31372"/>
                      <a:gd name="adj2" fmla="val 4929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52" name="Curved Connector 380"/>
                  <p:cNvCxnSpPr/>
                  <p:nvPr/>
                </p:nvCxnSpPr>
                <p:spPr>
                  <a:xfrm rot="10800000">
                    <a:off x="5968440" y="4939200"/>
                    <a:ext cx="18360" cy="24120"/>
                  </a:xfrm>
                  <a:prstGeom prst="curvedConnector4">
                    <a:avLst>
                      <a:gd name="adj1" fmla="val 32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53" name="Curved Connector 381"/>
                  <p:cNvCxnSpPr/>
                  <p:nvPr/>
                </p:nvCxnSpPr>
                <p:spPr>
                  <a:xfrm rot="10800000">
                    <a:off x="5987520" y="4966920"/>
                    <a:ext cx="18000" cy="24120"/>
                  </a:xfrm>
                  <a:prstGeom prst="curvedConnector4">
                    <a:avLst>
                      <a:gd name="adj1" fmla="val 3265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54" name="Curved Connector 382"/>
                  <p:cNvCxnSpPr/>
                  <p:nvPr/>
                </p:nvCxnSpPr>
                <p:spPr>
                  <a:xfrm rot="10800000">
                    <a:off x="5978520" y="4974120"/>
                    <a:ext cx="18360" cy="25560"/>
                  </a:xfrm>
                  <a:prstGeom prst="curvedConnector4">
                    <a:avLst>
                      <a:gd name="adj1" fmla="val 32000"/>
                      <a:gd name="adj2" fmla="val 4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55" name="Flowchart: Connector 383"/>
                  <p:cNvSpPr/>
                  <p:nvPr/>
                </p:nvSpPr>
                <p:spPr>
                  <a:xfrm flipV="1" rot="20945400">
                    <a:off x="5996880" y="4988520"/>
                    <a:ext cx="262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6" name="Group 418"/>
                <p:cNvGrpSpPr/>
                <p:nvPr/>
              </p:nvGrpSpPr>
              <p:grpSpPr>
                <a:xfrm>
                  <a:off x="5981760" y="4900320"/>
                  <a:ext cx="79200" cy="97560"/>
                  <a:chOff x="5981760" y="4900320"/>
                  <a:chExt cx="79200" cy="97560"/>
                </a:xfrm>
              </p:grpSpPr>
              <p:sp>
                <p:nvSpPr>
                  <p:cNvPr id="457" name="Flowchart: Connector 372"/>
                  <p:cNvSpPr/>
                  <p:nvPr/>
                </p:nvSpPr>
                <p:spPr>
                  <a:xfrm flipV="1" rot="21195600">
                    <a:off x="5983200" y="4901400"/>
                    <a:ext cx="266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58" name="Curved Connector 373"/>
                  <p:cNvCxnSpPr/>
                  <p:nvPr/>
                </p:nvCxnSpPr>
                <p:spPr>
                  <a:xfrm rot="10800000">
                    <a:off x="5996880" y="4926240"/>
                    <a:ext cx="16560" cy="25200"/>
                  </a:xfrm>
                  <a:prstGeom prst="curvedConnector4">
                    <a:avLst>
                      <a:gd name="adj1" fmla="val 28888"/>
                      <a:gd name="adj2" fmla="val 4927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59" name="Curved Connector 374"/>
                  <p:cNvCxnSpPr/>
                  <p:nvPr/>
                </p:nvCxnSpPr>
                <p:spPr>
                  <a:xfrm rot="10800000">
                    <a:off x="6009120" y="4919760"/>
                    <a:ext cx="16560" cy="24480"/>
                  </a:xfrm>
                  <a:prstGeom prst="curvedConnector4">
                    <a:avLst>
                      <a:gd name="adj1" fmla="val 28888"/>
                      <a:gd name="adj2" fmla="val 4925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0" name="Curved Connector 375"/>
                  <p:cNvCxnSpPr/>
                  <p:nvPr/>
                </p:nvCxnSpPr>
                <p:spPr>
                  <a:xfrm rot="10800000">
                    <a:off x="6028200" y="4947480"/>
                    <a:ext cx="16200" cy="24120"/>
                  </a:xfrm>
                  <a:prstGeom prst="curvedConnector4">
                    <a:avLst>
                      <a:gd name="adj1" fmla="val 2954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1" name="Curved Connector 376"/>
                  <p:cNvCxnSpPr/>
                  <p:nvPr/>
                </p:nvCxnSpPr>
                <p:spPr>
                  <a:xfrm rot="10800000">
                    <a:off x="6015960" y="4952880"/>
                    <a:ext cx="16200" cy="24840"/>
                  </a:xfrm>
                  <a:prstGeom prst="curvedConnector4">
                    <a:avLst>
                      <a:gd name="adj1" fmla="val 2954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62" name="Flowchart: Connector 377"/>
                  <p:cNvSpPr/>
                  <p:nvPr/>
                </p:nvSpPr>
                <p:spPr>
                  <a:xfrm flipV="1" rot="21195600">
                    <a:off x="6032880" y="4970520"/>
                    <a:ext cx="26640" cy="2520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63" name="Group 419"/>
                <p:cNvGrpSpPr/>
                <p:nvPr/>
              </p:nvGrpSpPr>
              <p:grpSpPr>
                <a:xfrm>
                  <a:off x="6320160" y="5479920"/>
                  <a:ext cx="91080" cy="92520"/>
                  <a:chOff x="6320160" y="5479920"/>
                  <a:chExt cx="91080" cy="92520"/>
                </a:xfrm>
              </p:grpSpPr>
              <p:sp>
                <p:nvSpPr>
                  <p:cNvPr id="464" name="Flowchart: Connector 366"/>
                  <p:cNvSpPr/>
                  <p:nvPr/>
                </p:nvSpPr>
                <p:spPr>
                  <a:xfrm flipV="1" rot="20702400">
                    <a:off x="6322680" y="548244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65" name="Curved Connector 367"/>
                  <p:cNvCxnSpPr/>
                  <p:nvPr/>
                </p:nvCxnSpPr>
                <p:spPr>
                  <a:xfrm rot="10800000">
                    <a:off x="6338880" y="5506560"/>
                    <a:ext cx="20160" cy="24120"/>
                  </a:xfrm>
                  <a:prstGeom prst="curvedConnector4">
                    <a:avLst>
                      <a:gd name="adj1" fmla="val 3454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6" name="Curved Connector 368"/>
                  <p:cNvCxnSpPr/>
                  <p:nvPr/>
                </p:nvCxnSpPr>
                <p:spPr>
                  <a:xfrm rot="10800000">
                    <a:off x="6350400" y="5496840"/>
                    <a:ext cx="19800" cy="23040"/>
                  </a:xfrm>
                  <a:prstGeom prst="curvedConnector4">
                    <a:avLst>
                      <a:gd name="adj1" fmla="val 33333"/>
                      <a:gd name="adj2" fmla="val 4920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7" name="Curved Connector 369"/>
                  <p:cNvCxnSpPr/>
                  <p:nvPr/>
                </p:nvCxnSpPr>
                <p:spPr>
                  <a:xfrm rot="10800000">
                    <a:off x="6371640" y="5522760"/>
                    <a:ext cx="19440" cy="22320"/>
                  </a:xfrm>
                  <a:prstGeom prst="curvedConnector4">
                    <a:avLst>
                      <a:gd name="adj1" fmla="val 32075"/>
                      <a:gd name="adj2" fmla="val 491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8" name="Curved Connector 370"/>
                  <p:cNvCxnSpPr/>
                  <p:nvPr/>
                </p:nvCxnSpPr>
                <p:spPr>
                  <a:xfrm rot="10800000">
                    <a:off x="6360480" y="5531040"/>
                    <a:ext cx="20160" cy="23040"/>
                  </a:xfrm>
                  <a:prstGeom prst="curvedConnector4">
                    <a:avLst>
                      <a:gd name="adj1" fmla="val 32727"/>
                      <a:gd name="adj2" fmla="val 4920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69" name="Flowchart: Connector 371"/>
                  <p:cNvSpPr/>
                  <p:nvPr/>
                </p:nvSpPr>
                <p:spPr>
                  <a:xfrm flipV="1" rot="20702400">
                    <a:off x="6382080" y="554292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70" name="Group 420"/>
                <p:cNvGrpSpPr/>
                <p:nvPr/>
              </p:nvGrpSpPr>
              <p:grpSpPr>
                <a:xfrm>
                  <a:off x="6345720" y="5450040"/>
                  <a:ext cx="102240" cy="85320"/>
                  <a:chOff x="6345720" y="5450040"/>
                  <a:chExt cx="102240" cy="85320"/>
                </a:xfrm>
              </p:grpSpPr>
              <p:sp>
                <p:nvSpPr>
                  <p:cNvPr id="471" name="Flowchart: Connector 360"/>
                  <p:cNvSpPr/>
                  <p:nvPr/>
                </p:nvSpPr>
                <p:spPr>
                  <a:xfrm flipV="1" rot="20165400">
                    <a:off x="6349680" y="545364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72" name="Curved Connector 361"/>
                  <p:cNvCxnSpPr/>
                  <p:nvPr/>
                </p:nvCxnSpPr>
                <p:spPr>
                  <a:xfrm rot="10800000">
                    <a:off x="6369840" y="5480280"/>
                    <a:ext cx="22680" cy="19440"/>
                  </a:xfrm>
                  <a:prstGeom prst="curvedConnector4">
                    <a:avLst>
                      <a:gd name="adj1" fmla="val 37096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73" name="Curved Connector 362"/>
                  <p:cNvCxnSpPr/>
                  <p:nvPr/>
                </p:nvCxnSpPr>
                <p:spPr>
                  <a:xfrm rot="10800000">
                    <a:off x="6377400" y="5468400"/>
                    <a:ext cx="23040" cy="19440"/>
                  </a:xfrm>
                  <a:prstGeom prst="curvedConnector4">
                    <a:avLst>
                      <a:gd name="adj1" fmla="val 34920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74" name="Curved Connector 363"/>
                  <p:cNvCxnSpPr/>
                  <p:nvPr/>
                </p:nvCxnSpPr>
                <p:spPr>
                  <a:xfrm rot="10800000">
                    <a:off x="6401880" y="548748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75" name="Curved Connector 364"/>
                  <p:cNvCxnSpPr/>
                  <p:nvPr/>
                </p:nvCxnSpPr>
                <p:spPr>
                  <a:xfrm rot="10800000">
                    <a:off x="6393960" y="549936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76" name="Flowchart: Connector 365"/>
                  <p:cNvSpPr/>
                  <p:nvPr/>
                </p:nvSpPr>
                <p:spPr>
                  <a:xfrm flipV="1" rot="20165400">
                    <a:off x="6417000" y="550404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77" name="Group 421"/>
                <p:cNvGrpSpPr/>
                <p:nvPr/>
              </p:nvGrpSpPr>
              <p:grpSpPr>
                <a:xfrm>
                  <a:off x="6454080" y="5165280"/>
                  <a:ext cx="118080" cy="43560"/>
                  <a:chOff x="6454080" y="5165280"/>
                  <a:chExt cx="118080" cy="43560"/>
                </a:xfrm>
              </p:grpSpPr>
              <p:sp>
                <p:nvSpPr>
                  <p:cNvPr id="478" name="Flowchart: Connector 354"/>
                  <p:cNvSpPr/>
                  <p:nvPr/>
                </p:nvSpPr>
                <p:spPr>
                  <a:xfrm flipV="1" rot="17604000">
                    <a:off x="6457680" y="517860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79" name="Curved Connector 355"/>
                  <p:cNvCxnSpPr/>
                  <p:nvPr/>
                </p:nvCxnSpPr>
                <p:spPr>
                  <a:xfrm flipV="1" rot="10800000">
                    <a:off x="6481800" y="5196960"/>
                    <a:ext cx="29880" cy="1440"/>
                  </a:xfrm>
                  <a:prstGeom prst="curvedConnector4">
                    <a:avLst>
                      <a:gd name="adj1" fmla="val 45121"/>
                      <a:gd name="adj2" fmla="val -16666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0" name="Curved Connector 356"/>
                  <p:cNvCxnSpPr/>
                  <p:nvPr/>
                </p:nvCxnSpPr>
                <p:spPr>
                  <a:xfrm flipV="1" rot="10800000">
                    <a:off x="6479640" y="5183640"/>
                    <a:ext cx="30240" cy="1800"/>
                  </a:xfrm>
                  <a:prstGeom prst="curvedConnector4">
                    <a:avLst>
                      <a:gd name="adj1" fmla="val 45783"/>
                      <a:gd name="adj2" fmla="val -125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1" name="Curved Connector 357"/>
                  <p:cNvCxnSpPr/>
                  <p:nvPr/>
                </p:nvCxnSpPr>
                <p:spPr>
                  <a:xfrm flipV="1" rot="10800000">
                    <a:off x="6513120" y="5181120"/>
                    <a:ext cx="29160" cy="1080"/>
                  </a:xfrm>
                  <a:prstGeom prst="curvedConnector4">
                    <a:avLst>
                      <a:gd name="adj1" fmla="val 45000"/>
                      <a:gd name="adj2" fmla="val -2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2" name="Curved Connector 358"/>
                  <p:cNvCxnSpPr/>
                  <p:nvPr/>
                </p:nvCxnSpPr>
                <p:spPr>
                  <a:xfrm flipV="1" rot="10800000">
                    <a:off x="6512760" y="5195880"/>
                    <a:ext cx="29160" cy="1800"/>
                  </a:xfrm>
                  <a:prstGeom prst="curvedConnector4">
                    <a:avLst>
                      <a:gd name="adj1" fmla="val 45000"/>
                      <a:gd name="adj2" fmla="val -125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83" name="Flowchart: Connector 359"/>
                  <p:cNvSpPr/>
                  <p:nvPr/>
                </p:nvSpPr>
                <p:spPr>
                  <a:xfrm flipV="1" rot="17604000">
                    <a:off x="6541560" y="5169240"/>
                    <a:ext cx="262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4" name="Group 422"/>
                <p:cNvGrpSpPr/>
                <p:nvPr/>
              </p:nvGrpSpPr>
              <p:grpSpPr>
                <a:xfrm>
                  <a:off x="6455520" y="5216400"/>
                  <a:ext cx="120600" cy="37440"/>
                  <a:chOff x="6455520" y="5216400"/>
                  <a:chExt cx="120600" cy="37440"/>
                </a:xfrm>
              </p:grpSpPr>
              <p:sp>
                <p:nvSpPr>
                  <p:cNvPr id="485" name="Flowchart: Connector 348"/>
                  <p:cNvSpPr/>
                  <p:nvPr/>
                </p:nvSpPr>
                <p:spPr>
                  <a:xfrm flipV="1" rot="18119400">
                    <a:off x="6460560" y="522036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86" name="Curved Connector 349"/>
                  <p:cNvCxnSpPr/>
                  <p:nvPr/>
                </p:nvCxnSpPr>
                <p:spPr>
                  <a:xfrm rot="10800000">
                    <a:off x="6484320" y="5237280"/>
                    <a:ext cx="29880" cy="3600"/>
                  </a:xfrm>
                  <a:prstGeom prst="curvedConnector4">
                    <a:avLst>
                      <a:gd name="adj1" fmla="val 43902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7" name="Curved Connector 350"/>
                  <p:cNvCxnSpPr/>
                  <p:nvPr/>
                </p:nvCxnSpPr>
                <p:spPr>
                  <a:xfrm rot="10800000">
                    <a:off x="6483240" y="5224320"/>
                    <a:ext cx="30240" cy="2880"/>
                  </a:xfrm>
                  <a:prstGeom prst="curvedConnector4">
                    <a:avLst>
                      <a:gd name="adj1" fmla="val 44578"/>
                      <a:gd name="adj2" fmla="val 12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8" name="Curved Connector 351"/>
                  <p:cNvCxnSpPr/>
                  <p:nvPr/>
                </p:nvCxnSpPr>
                <p:spPr>
                  <a:xfrm rot="10800000">
                    <a:off x="6516000" y="5226840"/>
                    <a:ext cx="28800" cy="2880"/>
                  </a:xfrm>
                  <a:prstGeom prst="curvedConnector4">
                    <a:avLst>
                      <a:gd name="adj1" fmla="val 43037"/>
                      <a:gd name="adj2" fmla="val 11428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9" name="Curved Connector 352"/>
                  <p:cNvCxnSpPr/>
                  <p:nvPr/>
                </p:nvCxnSpPr>
                <p:spPr>
                  <a:xfrm rot="10800000">
                    <a:off x="6514560" y="5240880"/>
                    <a:ext cx="29880" cy="3600"/>
                  </a:xfrm>
                  <a:prstGeom prst="curvedConnector4">
                    <a:avLst>
                      <a:gd name="adj1" fmla="val 43902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90" name="Flowchart: Connector 353"/>
                  <p:cNvSpPr/>
                  <p:nvPr/>
                </p:nvSpPr>
                <p:spPr>
                  <a:xfrm flipV="1" rot="18119400">
                    <a:off x="6546240" y="5222520"/>
                    <a:ext cx="244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91" name="Group 423"/>
                <p:cNvGrpSpPr/>
                <p:nvPr/>
              </p:nvGrpSpPr>
              <p:grpSpPr>
                <a:xfrm>
                  <a:off x="6456240" y="5254200"/>
                  <a:ext cx="119880" cy="48240"/>
                  <a:chOff x="6456240" y="5254200"/>
                  <a:chExt cx="119880" cy="48240"/>
                </a:xfrm>
              </p:grpSpPr>
              <p:sp>
                <p:nvSpPr>
                  <p:cNvPr id="492" name="Flowchart: Connector 342"/>
                  <p:cNvSpPr/>
                  <p:nvPr/>
                </p:nvSpPr>
                <p:spPr>
                  <a:xfrm flipV="1" rot="18490800">
                    <a:off x="6461280" y="5259240"/>
                    <a:ext cx="2592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93" name="Curved Connector 343"/>
                  <p:cNvCxnSpPr/>
                  <p:nvPr/>
                </p:nvCxnSpPr>
                <p:spPr>
                  <a:xfrm rot="10800000">
                    <a:off x="6483960" y="5277240"/>
                    <a:ext cx="29520" cy="6480"/>
                  </a:xfrm>
                  <a:prstGeom prst="curvedConnector4">
                    <a:avLst>
                      <a:gd name="adj1" fmla="val 41975"/>
                      <a:gd name="adj2" fmla="val 5294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94" name="Curved Connector 344"/>
                  <p:cNvCxnSpPr/>
                  <p:nvPr/>
                </p:nvCxnSpPr>
                <p:spPr>
                  <a:xfrm rot="10800000">
                    <a:off x="6487560" y="5264640"/>
                    <a:ext cx="29160" cy="5400"/>
                  </a:xfrm>
                  <a:prstGeom prst="curvedConnector4">
                    <a:avLst>
                      <a:gd name="adj1" fmla="val 41250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95" name="Curved Connector 345"/>
                  <p:cNvCxnSpPr/>
                  <p:nvPr/>
                </p:nvCxnSpPr>
                <p:spPr>
                  <a:xfrm rot="10800000">
                    <a:off x="6517800" y="5270040"/>
                    <a:ext cx="29520" cy="6480"/>
                  </a:xfrm>
                  <a:prstGeom prst="curvedConnector4">
                    <a:avLst>
                      <a:gd name="adj1" fmla="val 41975"/>
                      <a:gd name="adj2" fmla="val 5294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96" name="Curved Connector 346"/>
                  <p:cNvCxnSpPr/>
                  <p:nvPr/>
                </p:nvCxnSpPr>
                <p:spPr>
                  <a:xfrm rot="10800000">
                    <a:off x="6515280" y="5284080"/>
                    <a:ext cx="29520" cy="6480"/>
                  </a:xfrm>
                  <a:prstGeom prst="curvedConnector4">
                    <a:avLst>
                      <a:gd name="adj1" fmla="val 41975"/>
                      <a:gd name="adj2" fmla="val 5294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97" name="Flowchart: Connector 347"/>
                  <p:cNvSpPr/>
                  <p:nvPr/>
                </p:nvSpPr>
                <p:spPr>
                  <a:xfrm flipV="1" rot="18490800">
                    <a:off x="6545160" y="5271120"/>
                    <a:ext cx="2520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98" name="Group 424"/>
                <p:cNvGrpSpPr/>
                <p:nvPr/>
              </p:nvGrpSpPr>
              <p:grpSpPr>
                <a:xfrm>
                  <a:off x="6449040" y="5292000"/>
                  <a:ext cx="119520" cy="54720"/>
                  <a:chOff x="6449040" y="5292000"/>
                  <a:chExt cx="119520" cy="54720"/>
                </a:xfrm>
              </p:grpSpPr>
              <p:sp>
                <p:nvSpPr>
                  <p:cNvPr id="499" name="Flowchart: Connector 336"/>
                  <p:cNvSpPr/>
                  <p:nvPr/>
                </p:nvSpPr>
                <p:spPr>
                  <a:xfrm flipV="1" rot="18750000">
                    <a:off x="6454080" y="529704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00" name="Curved Connector 337"/>
                  <p:cNvCxnSpPr/>
                  <p:nvPr/>
                </p:nvCxnSpPr>
                <p:spPr>
                  <a:xfrm rot="10800000">
                    <a:off x="6477840" y="5315400"/>
                    <a:ext cx="29160" cy="8640"/>
                  </a:xfrm>
                  <a:prstGeom prst="curvedConnector4">
                    <a:avLst>
                      <a:gd name="adj1" fmla="val 41250"/>
                      <a:gd name="adj2" fmla="val 4782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1" name="Curved Connector 338"/>
                  <p:cNvCxnSpPr/>
                  <p:nvPr/>
                </p:nvCxnSpPr>
                <p:spPr>
                  <a:xfrm rot="10800000">
                    <a:off x="6478920" y="5301000"/>
                    <a:ext cx="28800" cy="8280"/>
                  </a:xfrm>
                  <a:prstGeom prst="curvedConnector4">
                    <a:avLst>
                      <a:gd name="adj1" fmla="val 4050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2" name="Curved Connector 339"/>
                  <p:cNvCxnSpPr/>
                  <p:nvPr/>
                </p:nvCxnSpPr>
                <p:spPr>
                  <a:xfrm rot="10800000">
                    <a:off x="6510960" y="5311080"/>
                    <a:ext cx="28800" cy="8280"/>
                  </a:xfrm>
                  <a:prstGeom prst="curvedConnector4">
                    <a:avLst>
                      <a:gd name="adj1" fmla="val 4177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3" name="Curved Connector 340"/>
                  <p:cNvCxnSpPr/>
                  <p:nvPr/>
                </p:nvCxnSpPr>
                <p:spPr>
                  <a:xfrm rot="10800000">
                    <a:off x="6506640" y="5322960"/>
                    <a:ext cx="29520" cy="9000"/>
                  </a:xfrm>
                  <a:prstGeom prst="curvedConnector4">
                    <a:avLst>
                      <a:gd name="adj1" fmla="val 4197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04" name="Flowchart: Connector 341"/>
                  <p:cNvSpPr/>
                  <p:nvPr/>
                </p:nvSpPr>
                <p:spPr>
                  <a:xfrm flipV="1" rot="18750000">
                    <a:off x="6537960" y="531504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05" name="Group 425"/>
                <p:cNvGrpSpPr/>
                <p:nvPr/>
              </p:nvGrpSpPr>
              <p:grpSpPr>
                <a:xfrm>
                  <a:off x="6443280" y="5326200"/>
                  <a:ext cx="114480" cy="67680"/>
                  <a:chOff x="6443280" y="5326200"/>
                  <a:chExt cx="114480" cy="67680"/>
                </a:xfrm>
              </p:grpSpPr>
              <p:sp>
                <p:nvSpPr>
                  <p:cNvPr id="506" name="Flowchart: Connector 330"/>
                  <p:cNvSpPr/>
                  <p:nvPr/>
                </p:nvSpPr>
                <p:spPr>
                  <a:xfrm flipV="1" rot="19294800">
                    <a:off x="6447960" y="5331240"/>
                    <a:ext cx="255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07" name="Curved Connector 331"/>
                  <p:cNvCxnSpPr/>
                  <p:nvPr/>
                </p:nvCxnSpPr>
                <p:spPr>
                  <a:xfrm rot="10800000">
                    <a:off x="6468120" y="5352480"/>
                    <a:ext cx="27360" cy="13680"/>
                  </a:xfrm>
                  <a:prstGeom prst="curvedConnector4">
                    <a:avLst>
                      <a:gd name="adj1" fmla="val 40000"/>
                      <a:gd name="adj2" fmla="val 48648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8" name="Curved Connector 332"/>
                  <p:cNvCxnSpPr/>
                  <p:nvPr/>
                </p:nvCxnSpPr>
                <p:spPr>
                  <a:xfrm rot="10800000">
                    <a:off x="6476040" y="5340600"/>
                    <a:ext cx="27000" cy="12600"/>
                  </a:xfrm>
                  <a:prstGeom prst="curvedConnector4">
                    <a:avLst>
                      <a:gd name="adj1" fmla="val 4054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9" name="Curved Connector 333"/>
                  <p:cNvCxnSpPr/>
                  <p:nvPr/>
                </p:nvCxnSpPr>
                <p:spPr>
                  <a:xfrm rot="10800000">
                    <a:off x="6505920" y="5354280"/>
                    <a:ext cx="26640" cy="12960"/>
                  </a:xfrm>
                  <a:prstGeom prst="curvedConnector4">
                    <a:avLst>
                      <a:gd name="adj1" fmla="val 39726"/>
                      <a:gd name="adj2" fmla="val 4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10" name="Curved Connector 334"/>
                  <p:cNvCxnSpPr/>
                  <p:nvPr/>
                </p:nvCxnSpPr>
                <p:spPr>
                  <a:xfrm rot="10800000">
                    <a:off x="6498000" y="5366160"/>
                    <a:ext cx="26280" cy="13320"/>
                  </a:xfrm>
                  <a:prstGeom prst="curvedConnector4">
                    <a:avLst>
                      <a:gd name="adj1" fmla="val 40277"/>
                      <a:gd name="adj2" fmla="val 4722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11" name="Flowchart: Connector 335"/>
                  <p:cNvSpPr/>
                  <p:nvPr/>
                </p:nvSpPr>
                <p:spPr>
                  <a:xfrm flipV="1" rot="19294800">
                    <a:off x="6525720" y="5361480"/>
                    <a:ext cx="26280" cy="2700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2" name="Group 426"/>
                <p:cNvGrpSpPr/>
                <p:nvPr/>
              </p:nvGrpSpPr>
              <p:grpSpPr>
                <a:xfrm>
                  <a:off x="6425280" y="5355720"/>
                  <a:ext cx="102240" cy="85320"/>
                  <a:chOff x="6425280" y="5355720"/>
                  <a:chExt cx="102240" cy="85320"/>
                </a:xfrm>
              </p:grpSpPr>
              <p:sp>
                <p:nvSpPr>
                  <p:cNvPr id="513" name="Flowchart: Connector 324"/>
                  <p:cNvSpPr/>
                  <p:nvPr/>
                </p:nvSpPr>
                <p:spPr>
                  <a:xfrm flipV="1" rot="20165400">
                    <a:off x="6429240" y="535932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14" name="Curved Connector 325"/>
                  <p:cNvCxnSpPr/>
                  <p:nvPr/>
                </p:nvCxnSpPr>
                <p:spPr>
                  <a:xfrm rot="10800000">
                    <a:off x="6449400" y="5385960"/>
                    <a:ext cx="22680" cy="19440"/>
                  </a:xfrm>
                  <a:prstGeom prst="curvedConnector4">
                    <a:avLst>
                      <a:gd name="adj1" fmla="val 37096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15" name="Curved Connector 326"/>
                  <p:cNvCxnSpPr/>
                  <p:nvPr/>
                </p:nvCxnSpPr>
                <p:spPr>
                  <a:xfrm rot="10800000">
                    <a:off x="6456240" y="5372280"/>
                    <a:ext cx="23040" cy="19440"/>
                  </a:xfrm>
                  <a:prstGeom prst="curvedConnector4">
                    <a:avLst>
                      <a:gd name="adj1" fmla="val 34920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16" name="Curved Connector 327"/>
                  <p:cNvCxnSpPr/>
                  <p:nvPr/>
                </p:nvCxnSpPr>
                <p:spPr>
                  <a:xfrm rot="10800000">
                    <a:off x="6481440" y="539316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17" name="Curved Connector 328"/>
                  <p:cNvCxnSpPr/>
                  <p:nvPr/>
                </p:nvCxnSpPr>
                <p:spPr>
                  <a:xfrm rot="10800000">
                    <a:off x="6473520" y="540504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18" name="Flowchart: Connector 329"/>
                  <p:cNvSpPr/>
                  <p:nvPr/>
                </p:nvSpPr>
                <p:spPr>
                  <a:xfrm flipV="1" rot="20165400">
                    <a:off x="6496560" y="540972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9" name="Group 427"/>
                <p:cNvGrpSpPr/>
                <p:nvPr/>
              </p:nvGrpSpPr>
              <p:grpSpPr>
                <a:xfrm>
                  <a:off x="6403320" y="5392440"/>
                  <a:ext cx="102240" cy="84600"/>
                  <a:chOff x="6403320" y="5392440"/>
                  <a:chExt cx="102240" cy="84600"/>
                </a:xfrm>
              </p:grpSpPr>
              <p:sp>
                <p:nvSpPr>
                  <p:cNvPr id="520" name="Flowchart: Connector 318"/>
                  <p:cNvSpPr/>
                  <p:nvPr/>
                </p:nvSpPr>
                <p:spPr>
                  <a:xfrm flipV="1" rot="20165400">
                    <a:off x="6407640" y="5396040"/>
                    <a:ext cx="2484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21" name="Curved Connector 319"/>
                  <p:cNvCxnSpPr/>
                  <p:nvPr/>
                </p:nvCxnSpPr>
                <p:spPr>
                  <a:xfrm rot="10800000">
                    <a:off x="6426000" y="5420520"/>
                    <a:ext cx="21960" cy="19080"/>
                  </a:xfrm>
                  <a:prstGeom prst="curvedConnector4">
                    <a:avLst>
                      <a:gd name="adj1" fmla="val 366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22" name="Curved Connector 320"/>
                  <p:cNvCxnSpPr/>
                  <p:nvPr/>
                </p:nvCxnSpPr>
                <p:spPr>
                  <a:xfrm rot="10800000">
                    <a:off x="6435000" y="5409360"/>
                    <a:ext cx="23400" cy="19800"/>
                  </a:xfrm>
                  <a:prstGeom prst="curvedConnector4">
                    <a:avLst>
                      <a:gd name="adj1" fmla="val 375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23" name="Curved Connector 321"/>
                  <p:cNvCxnSpPr/>
                  <p:nvPr/>
                </p:nvCxnSpPr>
                <p:spPr>
                  <a:xfrm rot="10800000">
                    <a:off x="6459480" y="542952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24" name="Curved Connector 322"/>
                  <p:cNvCxnSpPr/>
                  <p:nvPr/>
                </p:nvCxnSpPr>
                <p:spPr>
                  <a:xfrm rot="10800000">
                    <a:off x="6451560" y="5440680"/>
                    <a:ext cx="22680" cy="19800"/>
                  </a:xfrm>
                  <a:prstGeom prst="curvedConnector4">
                    <a:avLst>
                      <a:gd name="adj1" fmla="val 3548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25" name="Flowchart: Connector 323"/>
                  <p:cNvSpPr/>
                  <p:nvPr/>
                </p:nvSpPr>
                <p:spPr>
                  <a:xfrm flipV="1" rot="20165400">
                    <a:off x="6474240" y="5445720"/>
                    <a:ext cx="2664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26" name="Group 428"/>
                <p:cNvGrpSpPr/>
                <p:nvPr/>
              </p:nvGrpSpPr>
              <p:grpSpPr>
                <a:xfrm>
                  <a:off x="6376680" y="5420880"/>
                  <a:ext cx="102240" cy="85320"/>
                  <a:chOff x="6376680" y="5420880"/>
                  <a:chExt cx="102240" cy="85320"/>
                </a:xfrm>
              </p:grpSpPr>
              <p:sp>
                <p:nvSpPr>
                  <p:cNvPr id="527" name="Flowchart: Connector 312"/>
                  <p:cNvSpPr/>
                  <p:nvPr/>
                </p:nvSpPr>
                <p:spPr>
                  <a:xfrm flipV="1" rot="20165400">
                    <a:off x="6380280" y="5424480"/>
                    <a:ext cx="266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28" name="Curved Connector 313"/>
                  <p:cNvCxnSpPr/>
                  <p:nvPr/>
                </p:nvCxnSpPr>
                <p:spPr>
                  <a:xfrm rot="10800000">
                    <a:off x="6397920" y="5450400"/>
                    <a:ext cx="23040" cy="19440"/>
                  </a:xfrm>
                  <a:prstGeom prst="curvedConnector4">
                    <a:avLst>
                      <a:gd name="adj1" fmla="val 36507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29" name="Curved Connector 314"/>
                  <p:cNvCxnSpPr/>
                  <p:nvPr/>
                </p:nvCxnSpPr>
                <p:spPr>
                  <a:xfrm rot="10800000">
                    <a:off x="6406920" y="5437800"/>
                    <a:ext cx="22680" cy="19080"/>
                  </a:xfrm>
                  <a:prstGeom prst="curvedConnector4">
                    <a:avLst>
                      <a:gd name="adj1" fmla="val 3709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0" name="Curved Connector 315"/>
                  <p:cNvCxnSpPr/>
                  <p:nvPr/>
                </p:nvCxnSpPr>
                <p:spPr>
                  <a:xfrm rot="10800000">
                    <a:off x="6431760" y="5457960"/>
                    <a:ext cx="23040" cy="19440"/>
                  </a:xfrm>
                  <a:prstGeom prst="curvedConnector4">
                    <a:avLst>
                      <a:gd name="adj1" fmla="val 36507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1" name="Curved Connector 316"/>
                  <p:cNvCxnSpPr/>
                  <p:nvPr/>
                </p:nvCxnSpPr>
                <p:spPr>
                  <a:xfrm rot="10800000">
                    <a:off x="6422400" y="5468760"/>
                    <a:ext cx="23040" cy="19440"/>
                  </a:xfrm>
                  <a:prstGeom prst="curvedConnector4">
                    <a:avLst>
                      <a:gd name="adj1" fmla="val 36507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32" name="Flowchart: Connector 317"/>
                  <p:cNvSpPr/>
                  <p:nvPr/>
                </p:nvSpPr>
                <p:spPr>
                  <a:xfrm flipV="1" rot="20165400">
                    <a:off x="6447960" y="547488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33" name="Group 429"/>
                <p:cNvGrpSpPr/>
                <p:nvPr/>
              </p:nvGrpSpPr>
              <p:grpSpPr>
                <a:xfrm>
                  <a:off x="5838480" y="5412960"/>
                  <a:ext cx="110880" cy="56880"/>
                  <a:chOff x="5838480" y="5412960"/>
                  <a:chExt cx="110880" cy="56880"/>
                </a:xfrm>
              </p:grpSpPr>
              <p:sp>
                <p:nvSpPr>
                  <p:cNvPr id="534" name="Flowchart: Connector 306"/>
                  <p:cNvSpPr/>
                  <p:nvPr/>
                </p:nvSpPr>
                <p:spPr>
                  <a:xfrm flipV="1" rot="6104400">
                    <a:off x="5921280" y="5415120"/>
                    <a:ext cx="2556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35" name="Curved Connector 307"/>
                  <p:cNvCxnSpPr/>
                  <p:nvPr/>
                </p:nvCxnSpPr>
                <p:spPr>
                  <a:xfrm flipV="1">
                    <a:off x="5894280" y="5426280"/>
                    <a:ext cx="29520" cy="8280"/>
                  </a:xfrm>
                  <a:prstGeom prst="curvedConnector4">
                    <a:avLst>
                      <a:gd name="adj1" fmla="val 46913"/>
                      <a:gd name="adj2" fmla="val 10454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6" name="Curved Connector 308"/>
                  <p:cNvCxnSpPr/>
                  <p:nvPr/>
                </p:nvCxnSpPr>
                <p:spPr>
                  <a:xfrm flipV="1">
                    <a:off x="5899320" y="5442480"/>
                    <a:ext cx="28440" cy="8640"/>
                  </a:xfrm>
                  <a:prstGeom prst="curvedConnector4">
                    <a:avLst>
                      <a:gd name="adj1" fmla="val 47435"/>
                      <a:gd name="adj2" fmla="val 10434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7" name="Curved Connector 309"/>
                  <p:cNvCxnSpPr/>
                  <p:nvPr/>
                </p:nvCxnSpPr>
                <p:spPr>
                  <a:xfrm flipV="1">
                    <a:off x="5867280" y="5450760"/>
                    <a:ext cx="28440" cy="8280"/>
                  </a:xfrm>
                  <a:prstGeom prst="curvedConnector4">
                    <a:avLst>
                      <a:gd name="adj1" fmla="val 47435"/>
                      <a:gd name="adj2" fmla="val 10454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8" name="Curved Connector 310"/>
                  <p:cNvCxnSpPr/>
                  <p:nvPr/>
                </p:nvCxnSpPr>
                <p:spPr>
                  <a:xfrm flipV="1">
                    <a:off x="5864040" y="5436360"/>
                    <a:ext cx="28440" cy="8280"/>
                  </a:xfrm>
                  <a:prstGeom prst="curvedConnector4">
                    <a:avLst>
                      <a:gd name="adj1" fmla="val 47435"/>
                      <a:gd name="adj2" fmla="val 10454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39" name="Flowchart: Connector 311"/>
                  <p:cNvSpPr/>
                  <p:nvPr/>
                </p:nvSpPr>
                <p:spPr>
                  <a:xfrm flipV="1" rot="6104400">
                    <a:off x="5840640" y="5441760"/>
                    <a:ext cx="2556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0" name="Group 430"/>
                <p:cNvGrpSpPr/>
                <p:nvPr/>
              </p:nvGrpSpPr>
              <p:grpSpPr>
                <a:xfrm>
                  <a:off x="5816160" y="5379480"/>
                  <a:ext cx="114840" cy="50760"/>
                  <a:chOff x="5816160" y="5379480"/>
                  <a:chExt cx="114840" cy="50760"/>
                </a:xfrm>
              </p:grpSpPr>
              <p:sp>
                <p:nvSpPr>
                  <p:cNvPr id="541" name="Flowchart: Connector 300"/>
                  <p:cNvSpPr/>
                  <p:nvPr/>
                </p:nvSpPr>
                <p:spPr>
                  <a:xfrm flipV="1" rot="17249400">
                    <a:off x="5819400" y="5399640"/>
                    <a:ext cx="2664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42" name="Curved Connector 301"/>
                  <p:cNvCxnSpPr/>
                  <p:nvPr/>
                </p:nvCxnSpPr>
                <p:spPr>
                  <a:xfrm flipV="1" rot="10800000">
                    <a:off x="5844600" y="5409720"/>
                    <a:ext cx="30240" cy="4680"/>
                  </a:xfrm>
                  <a:prstGeom prst="curvedConnector4">
                    <a:avLst>
                      <a:gd name="adj1" fmla="val 45783"/>
                      <a:gd name="adj2" fmla="val -25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43" name="Curved Connector 302"/>
                  <p:cNvCxnSpPr/>
                  <p:nvPr/>
                </p:nvCxnSpPr>
                <p:spPr>
                  <a:xfrm flipV="1" rot="10800000">
                    <a:off x="5841000" y="5395320"/>
                    <a:ext cx="29160" cy="5040"/>
                  </a:xfrm>
                  <a:prstGeom prst="curvedConnector4">
                    <a:avLst>
                      <a:gd name="adj1" fmla="val 46250"/>
                      <a:gd name="adj2" fmla="val -2307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44" name="Curved Connector 303"/>
                  <p:cNvCxnSpPr/>
                  <p:nvPr/>
                </p:nvCxnSpPr>
                <p:spPr>
                  <a:xfrm flipV="1" rot="10800000">
                    <a:off x="5873760" y="5391360"/>
                    <a:ext cx="29160" cy="5400"/>
                  </a:xfrm>
                  <a:prstGeom prst="curvedConnector4">
                    <a:avLst>
                      <a:gd name="adj1" fmla="val 46250"/>
                      <a:gd name="adj2" fmla="val -1428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45" name="Curved Connector 304"/>
                  <p:cNvCxnSpPr/>
                  <p:nvPr/>
                </p:nvCxnSpPr>
                <p:spPr>
                  <a:xfrm flipV="1" rot="10800000">
                    <a:off x="5874120" y="5405760"/>
                    <a:ext cx="30240" cy="5400"/>
                  </a:xfrm>
                  <a:prstGeom prst="curvedConnector4">
                    <a:avLst>
                      <a:gd name="adj1" fmla="val 45783"/>
                      <a:gd name="adj2" fmla="val -21428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46" name="Flowchart: Connector 305"/>
                  <p:cNvSpPr/>
                  <p:nvPr/>
                </p:nvSpPr>
                <p:spPr>
                  <a:xfrm flipV="1" rot="17249400">
                    <a:off x="5902560" y="5382000"/>
                    <a:ext cx="248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7" name="Group 431"/>
                <p:cNvGrpSpPr/>
                <p:nvPr/>
              </p:nvGrpSpPr>
              <p:grpSpPr>
                <a:xfrm>
                  <a:off x="5797800" y="5339160"/>
                  <a:ext cx="115920" cy="48600"/>
                  <a:chOff x="5797800" y="5339160"/>
                  <a:chExt cx="115920" cy="48600"/>
                </a:xfrm>
              </p:grpSpPr>
              <p:sp>
                <p:nvSpPr>
                  <p:cNvPr id="548" name="Flowchart: Connector 294"/>
                  <p:cNvSpPr/>
                  <p:nvPr/>
                </p:nvSpPr>
                <p:spPr>
                  <a:xfrm flipV="1" rot="17335800">
                    <a:off x="5801040" y="5358600"/>
                    <a:ext cx="255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49" name="Curved Connector 295"/>
                  <p:cNvCxnSpPr/>
                  <p:nvPr/>
                </p:nvCxnSpPr>
                <p:spPr>
                  <a:xfrm flipV="1" rot="10800000">
                    <a:off x="5823000" y="5372280"/>
                    <a:ext cx="30240" cy="3960"/>
                  </a:xfrm>
                  <a:prstGeom prst="curvedConnector4">
                    <a:avLst>
                      <a:gd name="adj1" fmla="val 45783"/>
                      <a:gd name="adj2" fmla="val -3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0" name="Curved Connector 296"/>
                  <p:cNvCxnSpPr/>
                  <p:nvPr/>
                </p:nvCxnSpPr>
                <p:spPr>
                  <a:xfrm flipV="1" rot="10800000">
                    <a:off x="5820120" y="5358240"/>
                    <a:ext cx="29520" cy="3960"/>
                  </a:xfrm>
                  <a:prstGeom prst="curvedConnector4">
                    <a:avLst>
                      <a:gd name="adj1" fmla="val 45679"/>
                      <a:gd name="adj2" fmla="val -3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1" name="Curved Connector 297"/>
                  <p:cNvCxnSpPr/>
                  <p:nvPr/>
                </p:nvCxnSpPr>
                <p:spPr>
                  <a:xfrm flipV="1" rot="10800000">
                    <a:off x="5855400" y="5353560"/>
                    <a:ext cx="29520" cy="3960"/>
                  </a:xfrm>
                  <a:prstGeom prst="curvedConnector4">
                    <a:avLst>
                      <a:gd name="adj1" fmla="val 45679"/>
                      <a:gd name="adj2" fmla="val -3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2" name="Curved Connector 298"/>
                  <p:cNvCxnSpPr/>
                  <p:nvPr/>
                </p:nvCxnSpPr>
                <p:spPr>
                  <a:xfrm flipV="1" rot="10800000">
                    <a:off x="5856840" y="5367240"/>
                    <a:ext cx="29160" cy="3960"/>
                  </a:xfrm>
                  <a:prstGeom prst="curvedConnector4">
                    <a:avLst>
                      <a:gd name="adj1" fmla="val 45000"/>
                      <a:gd name="adj2" fmla="val -3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53" name="Flowchart: Connector 299"/>
                  <p:cNvSpPr/>
                  <p:nvPr/>
                </p:nvSpPr>
                <p:spPr>
                  <a:xfrm flipV="1" rot="17335800">
                    <a:off x="5884200" y="5342400"/>
                    <a:ext cx="255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54" name="Group 432"/>
                <p:cNvGrpSpPr/>
                <p:nvPr/>
              </p:nvGrpSpPr>
              <p:grpSpPr>
                <a:xfrm>
                  <a:off x="5779440" y="5299920"/>
                  <a:ext cx="119160" cy="39600"/>
                  <a:chOff x="5779440" y="5299920"/>
                  <a:chExt cx="119160" cy="39600"/>
                </a:xfrm>
              </p:grpSpPr>
              <p:sp>
                <p:nvSpPr>
                  <p:cNvPr id="555" name="Flowchart: Connector 288"/>
                  <p:cNvSpPr/>
                  <p:nvPr/>
                </p:nvSpPr>
                <p:spPr>
                  <a:xfrm flipV="1" rot="17801400">
                    <a:off x="5783760" y="5308560"/>
                    <a:ext cx="262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56" name="Curved Connector 289"/>
                  <p:cNvCxnSpPr/>
                  <p:nvPr/>
                </p:nvCxnSpPr>
                <p:spPr>
                  <a:xfrm rot="10800000">
                    <a:off x="5807880" y="5327640"/>
                    <a:ext cx="29880" cy="720"/>
                  </a:xfrm>
                  <a:prstGeom prst="curvedConnector4">
                    <a:avLst>
                      <a:gd name="adj1" fmla="val 45121"/>
                      <a:gd name="adj2" fmla="val 6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7" name="Curved Connector 290"/>
                  <p:cNvCxnSpPr/>
                  <p:nvPr/>
                </p:nvCxnSpPr>
                <p:spPr>
                  <a:xfrm rot="10800000">
                    <a:off x="5805000" y="5314320"/>
                    <a:ext cx="29880" cy="720"/>
                  </a:xfrm>
                  <a:prstGeom prst="curvedConnector4">
                    <a:avLst>
                      <a:gd name="adj1" fmla="val 45121"/>
                      <a:gd name="adj2" fmla="val 7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8" name="Curved Connector 291"/>
                  <p:cNvCxnSpPr/>
                  <p:nvPr/>
                </p:nvCxnSpPr>
                <p:spPr>
                  <a:xfrm rot="10800000">
                    <a:off x="5837760" y="5311440"/>
                    <a:ext cx="29520" cy="1800"/>
                  </a:xfrm>
                  <a:prstGeom prst="curvedConnector4">
                    <a:avLst>
                      <a:gd name="adj1" fmla="val 44444"/>
                      <a:gd name="adj2" fmla="val 175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9" name="Curved Connector 292"/>
                  <p:cNvCxnSpPr/>
                  <p:nvPr/>
                </p:nvCxnSpPr>
                <p:spPr>
                  <a:xfrm rot="10800000">
                    <a:off x="5837400" y="5328000"/>
                    <a:ext cx="30240" cy="720"/>
                  </a:xfrm>
                  <a:prstGeom prst="curvedConnector4">
                    <a:avLst>
                      <a:gd name="adj1" fmla="val 43373"/>
                      <a:gd name="adj2" fmla="val 7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60" name="Flowchart: Connector 293"/>
                  <p:cNvSpPr/>
                  <p:nvPr/>
                </p:nvSpPr>
                <p:spPr>
                  <a:xfrm flipV="1" rot="17801400">
                    <a:off x="5867640" y="5304240"/>
                    <a:ext cx="262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61" name="Group 433"/>
                <p:cNvGrpSpPr/>
                <p:nvPr/>
              </p:nvGrpSpPr>
              <p:grpSpPr>
                <a:xfrm>
                  <a:off x="5770800" y="5254560"/>
                  <a:ext cx="120600" cy="39960"/>
                  <a:chOff x="5770800" y="5254560"/>
                  <a:chExt cx="120600" cy="39960"/>
                </a:xfrm>
              </p:grpSpPr>
              <p:sp>
                <p:nvSpPr>
                  <p:cNvPr id="562" name="Flowchart: Connector 282"/>
                  <p:cNvSpPr/>
                  <p:nvPr/>
                </p:nvSpPr>
                <p:spPr>
                  <a:xfrm flipV="1" rot="18136200">
                    <a:off x="5775840" y="525888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63" name="Curved Connector 283"/>
                  <p:cNvCxnSpPr/>
                  <p:nvPr/>
                </p:nvCxnSpPr>
                <p:spPr>
                  <a:xfrm rot="10800000">
                    <a:off x="5799240" y="5279760"/>
                    <a:ext cx="29880" cy="3600"/>
                  </a:xfrm>
                  <a:prstGeom prst="curvedConnector4">
                    <a:avLst>
                      <a:gd name="adj1" fmla="val 43902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64" name="Curved Connector 284"/>
                  <p:cNvCxnSpPr/>
                  <p:nvPr/>
                </p:nvCxnSpPr>
                <p:spPr>
                  <a:xfrm rot="10800000">
                    <a:off x="5799240" y="5263560"/>
                    <a:ext cx="28800" cy="3600"/>
                  </a:xfrm>
                  <a:prstGeom prst="curvedConnector4">
                    <a:avLst>
                      <a:gd name="adj1" fmla="val 44303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65" name="Curved Connector 285"/>
                  <p:cNvCxnSpPr/>
                  <p:nvPr/>
                </p:nvCxnSpPr>
                <p:spPr>
                  <a:xfrm rot="10800000">
                    <a:off x="5833800" y="5268600"/>
                    <a:ext cx="29160" cy="3240"/>
                  </a:xfrm>
                  <a:prstGeom prst="curvedConnector4">
                    <a:avLst>
                      <a:gd name="adj1" fmla="val 43750"/>
                      <a:gd name="adj2" fmla="val 1125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66" name="Curved Connector 286"/>
                  <p:cNvCxnSpPr/>
                  <p:nvPr/>
                </p:nvCxnSpPr>
                <p:spPr>
                  <a:xfrm rot="10800000">
                    <a:off x="5828760" y="5281920"/>
                    <a:ext cx="29880" cy="3600"/>
                  </a:xfrm>
                  <a:prstGeom prst="curvedConnector4">
                    <a:avLst>
                      <a:gd name="adj1" fmla="val 43902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67" name="Flowchart: Connector 287"/>
                  <p:cNvSpPr/>
                  <p:nvPr/>
                </p:nvSpPr>
                <p:spPr>
                  <a:xfrm flipV="1" rot="18136200">
                    <a:off x="5859720" y="5262840"/>
                    <a:ext cx="266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68" name="Group 434"/>
                <p:cNvGrpSpPr/>
                <p:nvPr/>
              </p:nvGrpSpPr>
              <p:grpSpPr>
                <a:xfrm>
                  <a:off x="5771160" y="5205960"/>
                  <a:ext cx="120240" cy="47520"/>
                  <a:chOff x="5771160" y="5205960"/>
                  <a:chExt cx="120240" cy="47520"/>
                </a:xfrm>
              </p:grpSpPr>
              <p:sp>
                <p:nvSpPr>
                  <p:cNvPr id="569" name="Flowchart: Connector 276"/>
                  <p:cNvSpPr/>
                  <p:nvPr/>
                </p:nvSpPr>
                <p:spPr>
                  <a:xfrm flipV="1" rot="18485400">
                    <a:off x="5776200" y="521064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70" name="Curved Connector 277"/>
                  <p:cNvCxnSpPr/>
                  <p:nvPr/>
                </p:nvCxnSpPr>
                <p:spPr>
                  <a:xfrm rot="10800000">
                    <a:off x="5799600" y="5229000"/>
                    <a:ext cx="29160" cy="6120"/>
                  </a:xfrm>
                  <a:prstGeom prst="curvedConnector4">
                    <a:avLst>
                      <a:gd name="adj1" fmla="val 4125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1" name="Curved Connector 278"/>
                  <p:cNvCxnSpPr/>
                  <p:nvPr/>
                </p:nvCxnSpPr>
                <p:spPr>
                  <a:xfrm rot="10800000">
                    <a:off x="5802480" y="5214600"/>
                    <a:ext cx="29520" cy="5760"/>
                  </a:xfrm>
                  <a:prstGeom prst="curvedConnector4">
                    <a:avLst>
                      <a:gd name="adj1" fmla="val 41975"/>
                      <a:gd name="adj2" fmla="val 53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2" name="Curved Connector 279"/>
                  <p:cNvCxnSpPr/>
                  <p:nvPr/>
                </p:nvCxnSpPr>
                <p:spPr>
                  <a:xfrm rot="10800000">
                    <a:off x="5833440" y="5221440"/>
                    <a:ext cx="29160" cy="5760"/>
                  </a:xfrm>
                  <a:prstGeom prst="curvedConnector4">
                    <a:avLst>
                      <a:gd name="adj1" fmla="val 41250"/>
                      <a:gd name="adj2" fmla="val 53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3" name="Curved Connector 280"/>
                  <p:cNvCxnSpPr/>
                  <p:nvPr/>
                </p:nvCxnSpPr>
                <p:spPr>
                  <a:xfrm rot="10800000">
                    <a:off x="5830560" y="5236560"/>
                    <a:ext cx="29160" cy="5040"/>
                  </a:xfrm>
                  <a:prstGeom prst="curvedConnector4">
                    <a:avLst>
                      <a:gd name="adj1" fmla="val 41250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74" name="Flowchart: Connector 281"/>
                  <p:cNvSpPr/>
                  <p:nvPr/>
                </p:nvSpPr>
                <p:spPr>
                  <a:xfrm flipV="1" rot="18485400">
                    <a:off x="5860800" y="522216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5" name="Group 435"/>
                <p:cNvGrpSpPr/>
                <p:nvPr/>
              </p:nvGrpSpPr>
              <p:grpSpPr>
                <a:xfrm>
                  <a:off x="5779080" y="5149080"/>
                  <a:ext cx="115920" cy="66240"/>
                  <a:chOff x="5779080" y="5149080"/>
                  <a:chExt cx="115920" cy="66240"/>
                </a:xfrm>
              </p:grpSpPr>
              <p:sp>
                <p:nvSpPr>
                  <p:cNvPr id="576" name="Flowchart: Connector 270"/>
                  <p:cNvSpPr/>
                  <p:nvPr/>
                </p:nvSpPr>
                <p:spPr>
                  <a:xfrm flipV="1" rot="19208400">
                    <a:off x="5784480" y="5153760"/>
                    <a:ext cx="2592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77" name="Curved Connector 271"/>
                  <p:cNvCxnSpPr/>
                  <p:nvPr/>
                </p:nvCxnSpPr>
                <p:spPr>
                  <a:xfrm rot="10800000">
                    <a:off x="5806440" y="5176800"/>
                    <a:ext cx="28440" cy="13320"/>
                  </a:xfrm>
                  <a:prstGeom prst="curvedConnector4">
                    <a:avLst>
                      <a:gd name="adj1" fmla="val 4102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8" name="Curved Connector 272"/>
                  <p:cNvCxnSpPr/>
                  <p:nvPr/>
                </p:nvCxnSpPr>
                <p:spPr>
                  <a:xfrm rot="10800000">
                    <a:off x="5810760" y="5161680"/>
                    <a:ext cx="27360" cy="12960"/>
                  </a:xfrm>
                  <a:prstGeom prst="curvedConnector4">
                    <a:avLst>
                      <a:gd name="adj1" fmla="val 40000"/>
                      <a:gd name="adj2" fmla="val 4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9" name="Curved Connector 273"/>
                  <p:cNvCxnSpPr/>
                  <p:nvPr/>
                </p:nvCxnSpPr>
                <p:spPr>
                  <a:xfrm rot="10800000">
                    <a:off x="5842440" y="5177160"/>
                    <a:ext cx="27360" cy="12240"/>
                  </a:xfrm>
                  <a:prstGeom prst="curvedConnector4">
                    <a:avLst>
                      <a:gd name="adj1" fmla="val 40000"/>
                      <a:gd name="adj2" fmla="val 5151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80" name="Curved Connector 274"/>
                  <p:cNvCxnSpPr/>
                  <p:nvPr/>
                </p:nvCxnSpPr>
                <p:spPr>
                  <a:xfrm rot="10800000">
                    <a:off x="5835960" y="5189400"/>
                    <a:ext cx="27360" cy="12240"/>
                  </a:xfrm>
                  <a:prstGeom prst="curvedConnector4">
                    <a:avLst>
                      <a:gd name="adj1" fmla="val 40000"/>
                      <a:gd name="adj2" fmla="val 48484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81" name="Flowchart: Connector 275"/>
                  <p:cNvSpPr/>
                  <p:nvPr/>
                </p:nvSpPr>
                <p:spPr>
                  <a:xfrm flipV="1" rot="19208400">
                    <a:off x="5863680" y="518364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2" name="Group 436"/>
                <p:cNvGrpSpPr/>
                <p:nvPr/>
              </p:nvGrpSpPr>
              <p:grpSpPr>
                <a:xfrm>
                  <a:off x="5791680" y="5097960"/>
                  <a:ext cx="110880" cy="75600"/>
                  <a:chOff x="5791680" y="5097960"/>
                  <a:chExt cx="110880" cy="75600"/>
                </a:xfrm>
              </p:grpSpPr>
              <p:sp>
                <p:nvSpPr>
                  <p:cNvPr id="583" name="Flowchart: Connector 264"/>
                  <p:cNvSpPr/>
                  <p:nvPr/>
                </p:nvSpPr>
                <p:spPr>
                  <a:xfrm flipV="1" rot="19633200">
                    <a:off x="5796360" y="5103000"/>
                    <a:ext cx="2772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84" name="Curved Connector 265"/>
                  <p:cNvCxnSpPr/>
                  <p:nvPr/>
                </p:nvCxnSpPr>
                <p:spPr>
                  <a:xfrm rot="10800000">
                    <a:off x="5815800" y="5128200"/>
                    <a:ext cx="25920" cy="15840"/>
                  </a:xfrm>
                  <a:prstGeom prst="curvedConnector4">
                    <a:avLst>
                      <a:gd name="adj1" fmla="val 38028"/>
                      <a:gd name="adj2" fmla="val 4883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85" name="Curved Connector 266"/>
                  <p:cNvCxnSpPr/>
                  <p:nvPr/>
                </p:nvCxnSpPr>
                <p:spPr>
                  <a:xfrm rot="10800000">
                    <a:off x="5822640" y="5113800"/>
                    <a:ext cx="25560" cy="15120"/>
                  </a:xfrm>
                  <a:prstGeom prst="curvedConnector4">
                    <a:avLst>
                      <a:gd name="adj1" fmla="val 38571"/>
                      <a:gd name="adj2" fmla="val 51219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86" name="Curved Connector 267"/>
                  <p:cNvCxnSpPr/>
                  <p:nvPr/>
                </p:nvCxnSpPr>
                <p:spPr>
                  <a:xfrm rot="10800000">
                    <a:off x="5851080" y="5131080"/>
                    <a:ext cx="25920" cy="16200"/>
                  </a:xfrm>
                  <a:prstGeom prst="curvedConnector4">
                    <a:avLst>
                      <a:gd name="adj1" fmla="val 38028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87" name="Curved Connector 268"/>
                  <p:cNvCxnSpPr/>
                  <p:nvPr/>
                </p:nvCxnSpPr>
                <p:spPr>
                  <a:xfrm rot="10800000">
                    <a:off x="5844600" y="5142960"/>
                    <a:ext cx="25920" cy="16200"/>
                  </a:xfrm>
                  <a:prstGeom prst="curvedConnector4">
                    <a:avLst>
                      <a:gd name="adj1" fmla="val 38028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88" name="Flowchart: Connector 269"/>
                  <p:cNvSpPr/>
                  <p:nvPr/>
                </p:nvSpPr>
                <p:spPr>
                  <a:xfrm flipV="1" rot="19633200">
                    <a:off x="5871960" y="5142960"/>
                    <a:ext cx="2556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437"/>
                <p:cNvGrpSpPr/>
                <p:nvPr/>
              </p:nvGrpSpPr>
              <p:grpSpPr>
                <a:xfrm>
                  <a:off x="5815440" y="5050080"/>
                  <a:ext cx="102240" cy="84960"/>
                  <a:chOff x="5815440" y="5050080"/>
                  <a:chExt cx="102240" cy="84960"/>
                </a:xfrm>
              </p:grpSpPr>
              <p:sp>
                <p:nvSpPr>
                  <p:cNvPr id="590" name="Flowchart: Connector 258"/>
                  <p:cNvSpPr/>
                  <p:nvPr/>
                </p:nvSpPr>
                <p:spPr>
                  <a:xfrm flipV="1" rot="20165400">
                    <a:off x="5819400" y="505404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91" name="Curved Connector 259"/>
                  <p:cNvCxnSpPr/>
                  <p:nvPr/>
                </p:nvCxnSpPr>
                <p:spPr>
                  <a:xfrm rot="10800000">
                    <a:off x="5837760" y="5079960"/>
                    <a:ext cx="23040" cy="19440"/>
                  </a:xfrm>
                  <a:prstGeom prst="curvedConnector4">
                    <a:avLst>
                      <a:gd name="adj1" fmla="val 36507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92" name="Curved Connector 260"/>
                  <p:cNvCxnSpPr/>
                  <p:nvPr/>
                </p:nvCxnSpPr>
                <p:spPr>
                  <a:xfrm rot="10800000">
                    <a:off x="5846760" y="5067360"/>
                    <a:ext cx="21960" cy="18720"/>
                  </a:xfrm>
                  <a:prstGeom prst="curvedConnector4">
                    <a:avLst>
                      <a:gd name="adj1" fmla="val 35000"/>
                      <a:gd name="adj2" fmla="val 49019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93" name="Curved Connector 261"/>
                  <p:cNvCxnSpPr/>
                  <p:nvPr/>
                </p:nvCxnSpPr>
                <p:spPr>
                  <a:xfrm rot="10800000">
                    <a:off x="5872320" y="5086440"/>
                    <a:ext cx="22680" cy="19800"/>
                  </a:xfrm>
                  <a:prstGeom prst="curvedConnector4">
                    <a:avLst>
                      <a:gd name="adj1" fmla="val 3709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94" name="Curved Connector 262"/>
                  <p:cNvCxnSpPr/>
                  <p:nvPr/>
                </p:nvCxnSpPr>
                <p:spPr>
                  <a:xfrm rot="10800000">
                    <a:off x="5862960" y="5098680"/>
                    <a:ext cx="23040" cy="19440"/>
                  </a:xfrm>
                  <a:prstGeom prst="curvedConnector4">
                    <a:avLst>
                      <a:gd name="adj1" fmla="val 38095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95" name="Flowchart: Connector 263"/>
                  <p:cNvSpPr/>
                  <p:nvPr/>
                </p:nvSpPr>
                <p:spPr>
                  <a:xfrm flipV="1" rot="20165400">
                    <a:off x="5886720" y="510372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6" name="Group 438"/>
                <p:cNvGrpSpPr/>
                <p:nvPr/>
              </p:nvGrpSpPr>
              <p:grpSpPr>
                <a:xfrm>
                  <a:off x="6073560" y="5516640"/>
                  <a:ext cx="56880" cy="119160"/>
                  <a:chOff x="6073560" y="5516640"/>
                  <a:chExt cx="56880" cy="119160"/>
                </a:xfrm>
              </p:grpSpPr>
              <p:sp>
                <p:nvSpPr>
                  <p:cNvPr id="597" name="Flowchart: Connector 252"/>
                  <p:cNvSpPr/>
                  <p:nvPr/>
                </p:nvSpPr>
                <p:spPr>
                  <a:xfrm flipV="1" rot="2563200">
                    <a:off x="6098400" y="5521680"/>
                    <a:ext cx="266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98" name="Curved Connector 253"/>
                  <p:cNvCxnSpPr/>
                  <p:nvPr/>
                </p:nvCxnSpPr>
                <p:spPr>
                  <a:xfrm flipV="1">
                    <a:off x="6095520" y="5543280"/>
                    <a:ext cx="9000" cy="29160"/>
                  </a:xfrm>
                  <a:prstGeom prst="curvedConnector4">
                    <a:avLst>
                      <a:gd name="adj1" fmla="val 791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99" name="Curved Connector 254"/>
                  <p:cNvCxnSpPr/>
                  <p:nvPr/>
                </p:nvCxnSpPr>
                <p:spPr>
                  <a:xfrm flipV="1">
                    <a:off x="6109200" y="5544360"/>
                    <a:ext cx="9360" cy="28800"/>
                  </a:xfrm>
                  <a:prstGeom prst="curvedConnector4">
                    <a:avLst>
                      <a:gd name="adj1" fmla="val 76000"/>
                      <a:gd name="adj2" fmla="val 4936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0" name="Curved Connector 255"/>
                  <p:cNvCxnSpPr/>
                  <p:nvPr/>
                </p:nvCxnSpPr>
                <p:spPr>
                  <a:xfrm flipV="1">
                    <a:off x="6098040" y="5576040"/>
                    <a:ext cx="9000" cy="29160"/>
                  </a:xfrm>
                  <a:prstGeom prst="curvedConnector4">
                    <a:avLst>
                      <a:gd name="adj1" fmla="val 791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1" name="Curved Connector 256"/>
                  <p:cNvCxnSpPr/>
                  <p:nvPr/>
                </p:nvCxnSpPr>
                <p:spPr>
                  <a:xfrm flipV="1">
                    <a:off x="6085800" y="5572080"/>
                    <a:ext cx="9360" cy="29160"/>
                  </a:xfrm>
                  <a:prstGeom prst="curvedConnector4">
                    <a:avLst>
                      <a:gd name="adj1" fmla="val 76000"/>
                      <a:gd name="adj2" fmla="val 4875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02" name="Flowchart: Connector 257"/>
                  <p:cNvSpPr/>
                  <p:nvPr/>
                </p:nvSpPr>
                <p:spPr>
                  <a:xfrm flipV="1" rot="2563200">
                    <a:off x="6078600" y="5603760"/>
                    <a:ext cx="266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3" name="Group 439"/>
                <p:cNvGrpSpPr/>
                <p:nvPr/>
              </p:nvGrpSpPr>
              <p:grpSpPr>
                <a:xfrm>
                  <a:off x="6131520" y="5517000"/>
                  <a:ext cx="43560" cy="120600"/>
                  <a:chOff x="6131520" y="5517000"/>
                  <a:chExt cx="43560" cy="120600"/>
                </a:xfrm>
              </p:grpSpPr>
              <p:sp>
                <p:nvSpPr>
                  <p:cNvPr id="604" name="Flowchart: Connector 246"/>
                  <p:cNvSpPr/>
                  <p:nvPr/>
                </p:nvSpPr>
                <p:spPr>
                  <a:xfrm flipV="1" rot="2035800">
                    <a:off x="6143760" y="5521320"/>
                    <a:ext cx="2592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05" name="Curved Connector 247"/>
                  <p:cNvCxnSpPr/>
                  <p:nvPr/>
                </p:nvCxnSpPr>
                <p:spPr>
                  <a:xfrm flipV="1">
                    <a:off x="6147720" y="5544360"/>
                    <a:ext cx="5040" cy="30600"/>
                  </a:xfrm>
                  <a:prstGeom prst="curvedConnector4">
                    <a:avLst>
                      <a:gd name="adj1" fmla="val 10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6" name="Curved Connector 248"/>
                  <p:cNvCxnSpPr/>
                  <p:nvPr/>
                </p:nvCxnSpPr>
                <p:spPr>
                  <a:xfrm flipV="1">
                    <a:off x="6161760" y="5545440"/>
                    <a:ext cx="4320" cy="29880"/>
                  </a:xfrm>
                  <a:prstGeom prst="curvedConnector4">
                    <a:avLst>
                      <a:gd name="adj1" fmla="val 10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7" name="Curved Connector 249"/>
                  <p:cNvCxnSpPr/>
                  <p:nvPr/>
                </p:nvCxnSpPr>
                <p:spPr>
                  <a:xfrm flipV="1">
                    <a:off x="6155640" y="5578560"/>
                    <a:ext cx="5040" cy="30600"/>
                  </a:xfrm>
                  <a:prstGeom prst="curvedConnector4">
                    <a:avLst>
                      <a:gd name="adj1" fmla="val 100000"/>
                      <a:gd name="adj2" fmla="val 48809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8" name="Curved Connector 250"/>
                  <p:cNvCxnSpPr/>
                  <p:nvPr/>
                </p:nvCxnSpPr>
                <p:spPr>
                  <a:xfrm flipV="1">
                    <a:off x="6142680" y="5575680"/>
                    <a:ext cx="4680" cy="29520"/>
                  </a:xfrm>
                  <a:prstGeom prst="curvedConnector4">
                    <a:avLst>
                      <a:gd name="adj1" fmla="val 100000"/>
                      <a:gd name="adj2" fmla="val 4938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09" name="Flowchart: Connector 251"/>
                  <p:cNvSpPr/>
                  <p:nvPr/>
                </p:nvSpPr>
                <p:spPr>
                  <a:xfrm flipV="1" rot="2035800">
                    <a:off x="6136200" y="5605920"/>
                    <a:ext cx="2700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10" name="Group 440"/>
                <p:cNvGrpSpPr/>
                <p:nvPr/>
              </p:nvGrpSpPr>
              <p:grpSpPr>
                <a:xfrm>
                  <a:off x="6188040" y="5518800"/>
                  <a:ext cx="46080" cy="117000"/>
                  <a:chOff x="6188040" y="5518800"/>
                  <a:chExt cx="46080" cy="117000"/>
                </a:xfrm>
              </p:grpSpPr>
              <p:sp>
                <p:nvSpPr>
                  <p:cNvPr id="611" name="Flowchart: Connector 240"/>
                  <p:cNvSpPr/>
                  <p:nvPr/>
                </p:nvSpPr>
                <p:spPr>
                  <a:xfrm flipV="1" rot="1242000">
                    <a:off x="6191640" y="552240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12" name="Curved Connector 241"/>
                  <p:cNvCxnSpPr/>
                  <p:nvPr/>
                </p:nvCxnSpPr>
                <p:spPr>
                  <a:xfrm flipH="1" flipV="1">
                    <a:off x="6201720" y="5547240"/>
                    <a:ext cx="3240" cy="30600"/>
                  </a:xfrm>
                  <a:prstGeom prst="curvedConnector4">
                    <a:avLst>
                      <a:gd name="adj1" fmla="val -50000"/>
                      <a:gd name="adj2" fmla="val 48809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13" name="Curved Connector 242"/>
                  <p:cNvCxnSpPr/>
                  <p:nvPr/>
                </p:nvCxnSpPr>
                <p:spPr>
                  <a:xfrm flipH="1" flipV="1">
                    <a:off x="6215400" y="5545440"/>
                    <a:ext cx="3960" cy="29160"/>
                  </a:xfrm>
                  <a:prstGeom prst="curvedConnector4">
                    <a:avLst>
                      <a:gd name="adj1" fmla="val -3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14" name="Curved Connector 243"/>
                  <p:cNvCxnSpPr/>
                  <p:nvPr/>
                </p:nvCxnSpPr>
                <p:spPr>
                  <a:xfrm flipH="1" flipV="1">
                    <a:off x="6219000" y="5576760"/>
                    <a:ext cx="3240" cy="30960"/>
                  </a:xfrm>
                  <a:prstGeom prst="curvedConnector4">
                    <a:avLst>
                      <a:gd name="adj1" fmla="val -50000"/>
                      <a:gd name="adj2" fmla="val 4941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15" name="Curved Connector 244"/>
                  <p:cNvCxnSpPr/>
                  <p:nvPr/>
                </p:nvCxnSpPr>
                <p:spPr>
                  <a:xfrm flipH="1" flipV="1">
                    <a:off x="6204600" y="5578200"/>
                    <a:ext cx="3600" cy="29160"/>
                  </a:xfrm>
                  <a:prstGeom prst="curvedConnector4">
                    <a:avLst>
                      <a:gd name="adj1" fmla="val -4444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16" name="Flowchart: Connector 245"/>
                  <p:cNvSpPr/>
                  <p:nvPr/>
                </p:nvSpPr>
                <p:spPr>
                  <a:xfrm flipV="1" rot="1242000">
                    <a:off x="6205320" y="5606280"/>
                    <a:ext cx="2520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17" name="Group 441"/>
                <p:cNvGrpSpPr/>
                <p:nvPr/>
              </p:nvGrpSpPr>
              <p:grpSpPr>
                <a:xfrm>
                  <a:off x="6238440" y="5511240"/>
                  <a:ext cx="46800" cy="116640"/>
                  <a:chOff x="6238440" y="5511240"/>
                  <a:chExt cx="46800" cy="116640"/>
                </a:xfrm>
              </p:grpSpPr>
              <p:sp>
                <p:nvSpPr>
                  <p:cNvPr id="618" name="Flowchart: Connector 234"/>
                  <p:cNvSpPr/>
                  <p:nvPr/>
                </p:nvSpPr>
                <p:spPr>
                  <a:xfrm flipV="1" rot="1234200">
                    <a:off x="6242400" y="5514480"/>
                    <a:ext cx="25920" cy="273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19" name="Curved Connector 235"/>
                  <p:cNvCxnSpPr/>
                  <p:nvPr/>
                </p:nvCxnSpPr>
                <p:spPr>
                  <a:xfrm flipH="1" flipV="1">
                    <a:off x="6251760" y="5538240"/>
                    <a:ext cx="2880" cy="29880"/>
                  </a:xfrm>
                  <a:prstGeom prst="curvedConnector4">
                    <a:avLst>
                      <a:gd name="adj1" fmla="val -5714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0" name="Curved Connector 236"/>
                  <p:cNvCxnSpPr/>
                  <p:nvPr/>
                </p:nvCxnSpPr>
                <p:spPr>
                  <a:xfrm flipH="1" flipV="1">
                    <a:off x="6265800" y="5535360"/>
                    <a:ext cx="3240" cy="29160"/>
                  </a:xfrm>
                  <a:prstGeom prst="curvedConnector4">
                    <a:avLst>
                      <a:gd name="adj1" fmla="val -5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1" name="Curved Connector 237"/>
                  <p:cNvCxnSpPr/>
                  <p:nvPr/>
                </p:nvCxnSpPr>
                <p:spPr>
                  <a:xfrm flipH="1" flipV="1">
                    <a:off x="6267600" y="5570280"/>
                    <a:ext cx="4320" cy="29160"/>
                  </a:xfrm>
                  <a:prstGeom prst="curvedConnector4">
                    <a:avLst>
                      <a:gd name="adj1" fmla="val -2727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2" name="Curved Connector 238"/>
                  <p:cNvCxnSpPr/>
                  <p:nvPr/>
                </p:nvCxnSpPr>
                <p:spPr>
                  <a:xfrm flipH="1" flipV="1">
                    <a:off x="6255360" y="5569200"/>
                    <a:ext cx="3240" cy="29160"/>
                  </a:xfrm>
                  <a:prstGeom prst="curvedConnector4">
                    <a:avLst>
                      <a:gd name="adj1" fmla="val -5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23" name="Flowchart: Connector 239"/>
                  <p:cNvSpPr/>
                  <p:nvPr/>
                </p:nvSpPr>
                <p:spPr>
                  <a:xfrm flipV="1" rot="1234200">
                    <a:off x="6256080" y="5598360"/>
                    <a:ext cx="2520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24" name="Group 442"/>
                <p:cNvGrpSpPr/>
                <p:nvPr/>
              </p:nvGrpSpPr>
              <p:grpSpPr>
                <a:xfrm>
                  <a:off x="6280560" y="5500800"/>
                  <a:ext cx="67680" cy="99720"/>
                  <a:chOff x="6280560" y="5500800"/>
                  <a:chExt cx="67680" cy="99720"/>
                </a:xfrm>
              </p:grpSpPr>
              <p:sp>
                <p:nvSpPr>
                  <p:cNvPr id="625" name="Flowchart: Connector 228"/>
                  <p:cNvSpPr/>
                  <p:nvPr/>
                </p:nvSpPr>
                <p:spPr>
                  <a:xfrm flipV="1">
                    <a:off x="6280560" y="5500440"/>
                    <a:ext cx="2592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26" name="Curved Connector 229"/>
                  <p:cNvCxnSpPr/>
                  <p:nvPr/>
                </p:nvCxnSpPr>
                <p:spPr>
                  <a:xfrm flipV="1" rot="16200000">
                    <a:off x="6287040" y="5532480"/>
                    <a:ext cx="27000" cy="12960"/>
                  </a:xfrm>
                  <a:prstGeom prst="curvedConnector5">
                    <a:avLst>
                      <a:gd name="adj1" fmla="val 50000"/>
                      <a:gd name="adj2" fmla="val 48571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7" name="Curved Connector 230"/>
                  <p:cNvCxnSpPr/>
                  <p:nvPr/>
                </p:nvCxnSpPr>
                <p:spPr>
                  <a:xfrm flipV="1" rot="16200000">
                    <a:off x="6299640" y="5525280"/>
                    <a:ext cx="27000" cy="12960"/>
                  </a:xfrm>
                  <a:prstGeom prst="curvedConnector5">
                    <a:avLst>
                      <a:gd name="adj1" fmla="val 50000"/>
                      <a:gd name="adj2" fmla="val 48571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8" name="Curved Connector 231"/>
                  <p:cNvCxnSpPr/>
                  <p:nvPr/>
                </p:nvCxnSpPr>
                <p:spPr>
                  <a:xfrm flipV="1" rot="16200000">
                    <a:off x="6314040" y="5554440"/>
                    <a:ext cx="27000" cy="12960"/>
                  </a:xfrm>
                  <a:prstGeom prst="curvedConnector5">
                    <a:avLst>
                      <a:gd name="adj1" fmla="val 50000"/>
                      <a:gd name="adj2" fmla="val 48571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9" name="Curved Connector 232"/>
                  <p:cNvCxnSpPr/>
                  <p:nvPr/>
                </p:nvCxnSpPr>
                <p:spPr>
                  <a:xfrm flipV="1" rot="16200000">
                    <a:off x="6301440" y="5560920"/>
                    <a:ext cx="27000" cy="12960"/>
                  </a:xfrm>
                  <a:prstGeom prst="curvedConnector5">
                    <a:avLst>
                      <a:gd name="adj1" fmla="val 50000"/>
                      <a:gd name="adj2" fmla="val 48571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30" name="Flowchart: Connector 233"/>
                  <p:cNvSpPr/>
                  <p:nvPr/>
                </p:nvSpPr>
                <p:spPr>
                  <a:xfrm flipV="1">
                    <a:off x="6321600" y="557388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1" name="Group 443"/>
                <p:cNvGrpSpPr/>
                <p:nvPr/>
              </p:nvGrpSpPr>
              <p:grpSpPr>
                <a:xfrm>
                  <a:off x="6036120" y="4874040"/>
                  <a:ext cx="62280" cy="106200"/>
                  <a:chOff x="6036120" y="4874040"/>
                  <a:chExt cx="62280" cy="106200"/>
                </a:xfrm>
              </p:grpSpPr>
              <p:sp>
                <p:nvSpPr>
                  <p:cNvPr id="632" name="Flowchart: Connector 222"/>
                  <p:cNvSpPr/>
                  <p:nvPr/>
                </p:nvSpPr>
                <p:spPr>
                  <a:xfrm flipV="1" rot="348000">
                    <a:off x="6037200" y="4874760"/>
                    <a:ext cx="2628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33" name="Curved Connector 223"/>
                  <p:cNvCxnSpPr/>
                  <p:nvPr/>
                </p:nvCxnSpPr>
                <p:spPr>
                  <a:xfrm flipH="1" flipV="1">
                    <a:off x="6048720" y="4900320"/>
                    <a:ext cx="11520" cy="27000"/>
                  </a:xfrm>
                  <a:prstGeom prst="curvedConnector4">
                    <a:avLst>
                      <a:gd name="adj1" fmla="val 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34" name="Curved Connector 224"/>
                  <p:cNvCxnSpPr/>
                  <p:nvPr/>
                </p:nvCxnSpPr>
                <p:spPr>
                  <a:xfrm flipH="1" flipV="1">
                    <a:off x="6064200" y="4896720"/>
                    <a:ext cx="10800" cy="27720"/>
                  </a:xfrm>
                  <a:prstGeom prst="curvedConnector4">
                    <a:avLst>
                      <a:gd name="adj1" fmla="val 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35" name="Curved Connector 225"/>
                  <p:cNvCxnSpPr/>
                  <p:nvPr/>
                </p:nvCxnSpPr>
                <p:spPr>
                  <a:xfrm flipH="1" flipV="1">
                    <a:off x="6073200" y="4925880"/>
                    <a:ext cx="10800" cy="25920"/>
                  </a:xfrm>
                  <a:prstGeom prst="curvedConnector4">
                    <a:avLst>
                      <a:gd name="adj1" fmla="val 0"/>
                      <a:gd name="adj2" fmla="val 50704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36" name="Curved Connector 226"/>
                  <p:cNvCxnSpPr/>
                  <p:nvPr/>
                </p:nvCxnSpPr>
                <p:spPr>
                  <a:xfrm flipH="1" flipV="1">
                    <a:off x="6062760" y="4931640"/>
                    <a:ext cx="10440" cy="27720"/>
                  </a:xfrm>
                  <a:prstGeom prst="curvedConnector4">
                    <a:avLst>
                      <a:gd name="adj1" fmla="val 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37" name="Flowchart: Connector 227"/>
                  <p:cNvSpPr/>
                  <p:nvPr/>
                </p:nvSpPr>
                <p:spPr>
                  <a:xfrm flipV="1" rot="348000">
                    <a:off x="6069960" y="4952880"/>
                    <a:ext cx="270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8" name="Group 444"/>
                <p:cNvGrpSpPr/>
                <p:nvPr/>
              </p:nvGrpSpPr>
              <p:grpSpPr>
                <a:xfrm>
                  <a:off x="6091200" y="4855320"/>
                  <a:ext cx="49320" cy="115560"/>
                  <a:chOff x="6091200" y="4855320"/>
                  <a:chExt cx="49320" cy="115560"/>
                </a:xfrm>
              </p:grpSpPr>
              <p:sp>
                <p:nvSpPr>
                  <p:cNvPr id="639" name="Flowchart: Connector 216"/>
                  <p:cNvSpPr/>
                  <p:nvPr/>
                </p:nvSpPr>
                <p:spPr>
                  <a:xfrm flipV="1" rot="1069200">
                    <a:off x="6094440" y="4858560"/>
                    <a:ext cx="266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40" name="Curved Connector 217"/>
                  <p:cNvCxnSpPr/>
                  <p:nvPr/>
                </p:nvCxnSpPr>
                <p:spPr>
                  <a:xfrm flipH="1" flipV="1">
                    <a:off x="6104520" y="4885920"/>
                    <a:ext cx="3600" cy="29880"/>
                  </a:xfrm>
                  <a:prstGeom prst="curvedConnector4">
                    <a:avLst>
                      <a:gd name="adj1" fmla="val -3333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1" name="Curved Connector 218"/>
                  <p:cNvCxnSpPr/>
                  <p:nvPr/>
                </p:nvCxnSpPr>
                <p:spPr>
                  <a:xfrm flipH="1" flipV="1">
                    <a:off x="6118560" y="4880160"/>
                    <a:ext cx="4680" cy="28800"/>
                  </a:xfrm>
                  <a:prstGeom prst="curvedConnector4">
                    <a:avLst>
                      <a:gd name="adj1" fmla="val -25000"/>
                      <a:gd name="adj2" fmla="val 4936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2" name="Curved Connector 219"/>
                  <p:cNvCxnSpPr/>
                  <p:nvPr/>
                </p:nvCxnSpPr>
                <p:spPr>
                  <a:xfrm flipH="1" flipV="1">
                    <a:off x="6123240" y="4912920"/>
                    <a:ext cx="4680" cy="29160"/>
                  </a:xfrm>
                  <a:prstGeom prst="curvedConnector4">
                    <a:avLst>
                      <a:gd name="adj1" fmla="val -25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3" name="Curved Connector 220"/>
                  <p:cNvCxnSpPr/>
                  <p:nvPr/>
                </p:nvCxnSpPr>
                <p:spPr>
                  <a:xfrm flipH="1" flipV="1">
                    <a:off x="6108480" y="4914000"/>
                    <a:ext cx="5040" cy="29160"/>
                  </a:xfrm>
                  <a:prstGeom prst="curvedConnector4">
                    <a:avLst>
                      <a:gd name="adj1" fmla="val -2307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44" name="Flowchart: Connector 221"/>
                  <p:cNvSpPr/>
                  <p:nvPr/>
                </p:nvSpPr>
                <p:spPr>
                  <a:xfrm flipV="1" rot="1069200">
                    <a:off x="6111360" y="4941720"/>
                    <a:ext cx="2556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45" name="Group 445"/>
                <p:cNvGrpSpPr/>
                <p:nvPr/>
              </p:nvGrpSpPr>
              <p:grpSpPr>
                <a:xfrm>
                  <a:off x="6189120" y="4853160"/>
                  <a:ext cx="44640" cy="120600"/>
                  <a:chOff x="6189120" y="4853160"/>
                  <a:chExt cx="44640" cy="120600"/>
                </a:xfrm>
              </p:grpSpPr>
              <p:sp>
                <p:nvSpPr>
                  <p:cNvPr id="646" name="Flowchart: Connector 210"/>
                  <p:cNvSpPr/>
                  <p:nvPr/>
                </p:nvSpPr>
                <p:spPr>
                  <a:xfrm flipV="1" rot="2110200">
                    <a:off x="6202440" y="4857840"/>
                    <a:ext cx="2592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47" name="Curved Connector 211"/>
                  <p:cNvCxnSpPr/>
                  <p:nvPr/>
                </p:nvCxnSpPr>
                <p:spPr>
                  <a:xfrm flipV="1">
                    <a:off x="6204600" y="4881240"/>
                    <a:ext cx="3960" cy="28440"/>
                  </a:xfrm>
                  <a:prstGeom prst="curvedConnector4">
                    <a:avLst>
                      <a:gd name="adj1" fmla="val 100000"/>
                      <a:gd name="adj2" fmla="val 4871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8" name="Curved Connector 212"/>
                  <p:cNvCxnSpPr/>
                  <p:nvPr/>
                </p:nvCxnSpPr>
                <p:spPr>
                  <a:xfrm flipV="1">
                    <a:off x="6218280" y="4882680"/>
                    <a:ext cx="5760" cy="29160"/>
                  </a:xfrm>
                  <a:prstGeom prst="curvedConnector4">
                    <a:avLst>
                      <a:gd name="adj1" fmla="val 10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9" name="Curved Connector 213"/>
                  <p:cNvCxnSpPr/>
                  <p:nvPr/>
                </p:nvCxnSpPr>
                <p:spPr>
                  <a:xfrm flipV="1">
                    <a:off x="6215400" y="4913640"/>
                    <a:ext cx="4680" cy="29880"/>
                  </a:xfrm>
                  <a:prstGeom prst="curvedConnector4">
                    <a:avLst>
                      <a:gd name="adj1" fmla="val 100000"/>
                      <a:gd name="adj2" fmla="val 487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50" name="Curved Connector 214"/>
                  <p:cNvCxnSpPr/>
                  <p:nvPr/>
                </p:nvCxnSpPr>
                <p:spPr>
                  <a:xfrm flipV="1">
                    <a:off x="6200280" y="4912560"/>
                    <a:ext cx="4680" cy="29880"/>
                  </a:xfrm>
                  <a:prstGeom prst="curvedConnector4">
                    <a:avLst>
                      <a:gd name="adj1" fmla="val 10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51" name="Flowchart: Connector 215"/>
                  <p:cNvSpPr/>
                  <p:nvPr/>
                </p:nvSpPr>
                <p:spPr>
                  <a:xfrm flipV="1" rot="2110200">
                    <a:off x="6194160" y="4941720"/>
                    <a:ext cx="2592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52" name="Group 446"/>
                <p:cNvGrpSpPr/>
                <p:nvPr/>
              </p:nvGrpSpPr>
              <p:grpSpPr>
                <a:xfrm>
                  <a:off x="6232320" y="4858920"/>
                  <a:ext cx="58320" cy="118440"/>
                  <a:chOff x="6232320" y="4858920"/>
                  <a:chExt cx="58320" cy="118440"/>
                </a:xfrm>
              </p:grpSpPr>
              <p:sp>
                <p:nvSpPr>
                  <p:cNvPr id="653" name="Flowchart: Connector 204"/>
                  <p:cNvSpPr/>
                  <p:nvPr/>
                </p:nvSpPr>
                <p:spPr>
                  <a:xfrm flipV="1" rot="2685000">
                    <a:off x="6259680" y="4863960"/>
                    <a:ext cx="2520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54" name="Curved Connector 205"/>
                  <p:cNvCxnSpPr/>
                  <p:nvPr/>
                </p:nvCxnSpPr>
                <p:spPr>
                  <a:xfrm flipV="1">
                    <a:off x="6255720" y="4888440"/>
                    <a:ext cx="11160" cy="27720"/>
                  </a:xfrm>
                  <a:prstGeom prst="curvedConnector4">
                    <a:avLst>
                      <a:gd name="adj1" fmla="val 7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55" name="Curved Connector 206"/>
                  <p:cNvCxnSpPr/>
                  <p:nvPr/>
                </p:nvCxnSpPr>
                <p:spPr>
                  <a:xfrm flipV="1">
                    <a:off x="6269760" y="4889520"/>
                    <a:ext cx="9360" cy="27720"/>
                  </a:xfrm>
                  <a:prstGeom prst="curvedConnector4">
                    <a:avLst>
                      <a:gd name="adj1" fmla="val 8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56" name="Curved Connector 207"/>
                  <p:cNvCxnSpPr/>
                  <p:nvPr/>
                </p:nvCxnSpPr>
                <p:spPr>
                  <a:xfrm flipV="1">
                    <a:off x="6259320" y="4920480"/>
                    <a:ext cx="9360" cy="28080"/>
                  </a:xfrm>
                  <a:prstGeom prst="curvedConnector4">
                    <a:avLst>
                      <a:gd name="adj1" fmla="val 80000"/>
                      <a:gd name="adj2" fmla="val 4935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57" name="Curved Connector 208"/>
                  <p:cNvCxnSpPr/>
                  <p:nvPr/>
                </p:nvCxnSpPr>
                <p:spPr>
                  <a:xfrm flipV="1">
                    <a:off x="6246720" y="4916160"/>
                    <a:ext cx="9360" cy="27720"/>
                  </a:xfrm>
                  <a:prstGeom prst="curvedConnector4">
                    <a:avLst>
                      <a:gd name="adj1" fmla="val 76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58" name="Flowchart: Connector 209"/>
                  <p:cNvSpPr/>
                  <p:nvPr/>
                </p:nvSpPr>
                <p:spPr>
                  <a:xfrm flipV="1" rot="2685000">
                    <a:off x="6237360" y="4946040"/>
                    <a:ext cx="2592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59" name="Group 447"/>
                <p:cNvGrpSpPr/>
                <p:nvPr/>
              </p:nvGrpSpPr>
              <p:grpSpPr>
                <a:xfrm>
                  <a:off x="6275880" y="4874760"/>
                  <a:ext cx="69120" cy="114480"/>
                  <a:chOff x="6275880" y="4874760"/>
                  <a:chExt cx="69120" cy="114480"/>
                </a:xfrm>
              </p:grpSpPr>
              <p:sp>
                <p:nvSpPr>
                  <p:cNvPr id="660" name="Flowchart: Connector 198"/>
                  <p:cNvSpPr/>
                  <p:nvPr/>
                </p:nvSpPr>
                <p:spPr>
                  <a:xfrm flipV="1" rot="3134400">
                    <a:off x="6313320" y="487980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61" name="Curved Connector 199"/>
                  <p:cNvCxnSpPr/>
                  <p:nvPr/>
                </p:nvCxnSpPr>
                <p:spPr>
                  <a:xfrm flipV="1">
                    <a:off x="6307560" y="4899600"/>
                    <a:ext cx="13320" cy="27000"/>
                  </a:xfrm>
                  <a:prstGeom prst="curvedConnector4">
                    <a:avLst>
                      <a:gd name="adj1" fmla="val 666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62" name="Curved Connector 200"/>
                  <p:cNvCxnSpPr/>
                  <p:nvPr/>
                </p:nvCxnSpPr>
                <p:spPr>
                  <a:xfrm flipV="1">
                    <a:off x="6318360" y="4906440"/>
                    <a:ext cx="12960" cy="26280"/>
                  </a:xfrm>
                  <a:prstGeom prst="curvedConnector4">
                    <a:avLst>
                      <a:gd name="adj1" fmla="val 6571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63" name="Curved Connector 201"/>
                  <p:cNvCxnSpPr/>
                  <p:nvPr/>
                </p:nvCxnSpPr>
                <p:spPr>
                  <a:xfrm flipV="1">
                    <a:off x="6303600" y="4935960"/>
                    <a:ext cx="12600" cy="26640"/>
                  </a:xfrm>
                  <a:prstGeom prst="curvedConnector4">
                    <a:avLst>
                      <a:gd name="adj1" fmla="val 67647"/>
                      <a:gd name="adj2" fmla="val 4931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64" name="Curved Connector 202"/>
                  <p:cNvCxnSpPr/>
                  <p:nvPr/>
                </p:nvCxnSpPr>
                <p:spPr>
                  <a:xfrm flipV="1">
                    <a:off x="6292440" y="4929120"/>
                    <a:ext cx="12960" cy="26280"/>
                  </a:xfrm>
                  <a:prstGeom prst="curvedConnector4">
                    <a:avLst>
                      <a:gd name="adj1" fmla="val 68571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65" name="Flowchart: Connector 203"/>
                  <p:cNvSpPr/>
                  <p:nvPr/>
                </p:nvSpPr>
                <p:spPr>
                  <a:xfrm flipV="1" rot="3134400">
                    <a:off x="6280560" y="495792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6" name="Group 448"/>
                <p:cNvGrpSpPr/>
                <p:nvPr/>
              </p:nvGrpSpPr>
              <p:grpSpPr>
                <a:xfrm>
                  <a:off x="6312600" y="4901040"/>
                  <a:ext cx="78480" cy="108000"/>
                  <a:chOff x="6312600" y="4901040"/>
                  <a:chExt cx="78480" cy="108000"/>
                </a:xfrm>
              </p:grpSpPr>
              <p:sp>
                <p:nvSpPr>
                  <p:cNvPr id="667" name="Flowchart: Connector 192"/>
                  <p:cNvSpPr/>
                  <p:nvPr/>
                </p:nvSpPr>
                <p:spPr>
                  <a:xfrm flipV="1" rot="3658200">
                    <a:off x="6361200" y="4905000"/>
                    <a:ext cx="248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68" name="Curved Connector 193"/>
                  <p:cNvCxnSpPr/>
                  <p:nvPr/>
                </p:nvCxnSpPr>
                <p:spPr>
                  <a:xfrm flipV="1">
                    <a:off x="6348600" y="4925160"/>
                    <a:ext cx="18000" cy="25200"/>
                  </a:xfrm>
                  <a:prstGeom prst="curvedConnector4">
                    <a:avLst>
                      <a:gd name="adj1" fmla="val 61224"/>
                      <a:gd name="adj2" fmla="val 4927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69" name="Curved Connector 194"/>
                  <p:cNvCxnSpPr/>
                  <p:nvPr/>
                </p:nvCxnSpPr>
                <p:spPr>
                  <a:xfrm flipV="1">
                    <a:off x="6359400" y="4932000"/>
                    <a:ext cx="16920" cy="25560"/>
                  </a:xfrm>
                  <a:prstGeom prst="curvedConnector4">
                    <a:avLst>
                      <a:gd name="adj1" fmla="val 60869"/>
                      <a:gd name="adj2" fmla="val 4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0" name="Curved Connector 195"/>
                  <p:cNvCxnSpPr/>
                  <p:nvPr/>
                </p:nvCxnSpPr>
                <p:spPr>
                  <a:xfrm flipV="1">
                    <a:off x="6341400" y="4960080"/>
                    <a:ext cx="16200" cy="24480"/>
                  </a:xfrm>
                  <a:prstGeom prst="curvedConnector4">
                    <a:avLst>
                      <a:gd name="adj1" fmla="val 61363"/>
                      <a:gd name="adj2" fmla="val 4925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1" name="Curved Connector 196"/>
                  <p:cNvCxnSpPr/>
                  <p:nvPr/>
                </p:nvCxnSpPr>
                <p:spPr>
                  <a:xfrm flipV="1">
                    <a:off x="6328800" y="4952160"/>
                    <a:ext cx="17280" cy="24840"/>
                  </a:xfrm>
                  <a:prstGeom prst="curvedConnector4">
                    <a:avLst>
                      <a:gd name="adj1" fmla="val 6170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72" name="Flowchart: Connector 197"/>
                  <p:cNvSpPr/>
                  <p:nvPr/>
                </p:nvSpPr>
                <p:spPr>
                  <a:xfrm flipV="1" rot="3658200">
                    <a:off x="6316920" y="4979160"/>
                    <a:ext cx="24840" cy="2520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73" name="Group 449"/>
                <p:cNvGrpSpPr/>
                <p:nvPr/>
              </p:nvGrpSpPr>
              <p:grpSpPr>
                <a:xfrm>
                  <a:off x="6145560" y="4850280"/>
                  <a:ext cx="38520" cy="120600"/>
                  <a:chOff x="6145560" y="4850280"/>
                  <a:chExt cx="38520" cy="120600"/>
                </a:xfrm>
              </p:grpSpPr>
              <p:sp>
                <p:nvSpPr>
                  <p:cNvPr id="674" name="Flowchart: Connector 186"/>
                  <p:cNvSpPr/>
                  <p:nvPr/>
                </p:nvSpPr>
                <p:spPr>
                  <a:xfrm flipV="1" rot="1886400">
                    <a:off x="6153120" y="485460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75" name="Curved Connector 187"/>
                  <p:cNvCxnSpPr/>
                  <p:nvPr/>
                </p:nvCxnSpPr>
                <p:spPr>
                  <a:xfrm flipV="1">
                    <a:off x="6158160" y="4878000"/>
                    <a:ext cx="3600" cy="30240"/>
                  </a:xfrm>
                  <a:prstGeom prst="curvedConnector4">
                    <a:avLst>
                      <a:gd name="adj1" fmla="val 111111"/>
                      <a:gd name="adj2" fmla="val 4939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6" name="Curved Connector 188"/>
                  <p:cNvCxnSpPr/>
                  <p:nvPr/>
                </p:nvCxnSpPr>
                <p:spPr>
                  <a:xfrm flipV="1">
                    <a:off x="6172920" y="4878720"/>
                    <a:ext cx="2160" cy="29880"/>
                  </a:xfrm>
                  <a:prstGeom prst="curvedConnector4">
                    <a:avLst>
                      <a:gd name="adj1" fmla="val 16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7" name="Curved Connector 189"/>
                  <p:cNvCxnSpPr/>
                  <p:nvPr/>
                </p:nvCxnSpPr>
                <p:spPr>
                  <a:xfrm flipV="1">
                    <a:off x="6169320" y="4911840"/>
                    <a:ext cx="2160" cy="29880"/>
                  </a:xfrm>
                  <a:prstGeom prst="curvedConnector4">
                    <a:avLst>
                      <a:gd name="adj1" fmla="val 160000"/>
                      <a:gd name="adj2" fmla="val 487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8" name="Curved Connector 190"/>
                  <p:cNvCxnSpPr/>
                  <p:nvPr/>
                </p:nvCxnSpPr>
                <p:spPr>
                  <a:xfrm flipV="1">
                    <a:off x="6156360" y="4908600"/>
                    <a:ext cx="3600" cy="30240"/>
                  </a:xfrm>
                  <a:prstGeom prst="curvedConnector4">
                    <a:avLst>
                      <a:gd name="adj1" fmla="val 111111"/>
                      <a:gd name="adj2" fmla="val 4939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79" name="Flowchart: Connector 191"/>
                  <p:cNvSpPr/>
                  <p:nvPr/>
                </p:nvSpPr>
                <p:spPr>
                  <a:xfrm flipV="1" rot="1886400">
                    <a:off x="6150600" y="4938840"/>
                    <a:ext cx="2592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80" name="Group 450"/>
                <p:cNvGrpSpPr/>
                <p:nvPr/>
              </p:nvGrpSpPr>
              <p:grpSpPr>
                <a:xfrm>
                  <a:off x="6347880" y="4941000"/>
                  <a:ext cx="92520" cy="90720"/>
                  <a:chOff x="6347880" y="4941000"/>
                  <a:chExt cx="92520" cy="90720"/>
                </a:xfrm>
              </p:grpSpPr>
              <p:sp>
                <p:nvSpPr>
                  <p:cNvPr id="681" name="Flowchart: Connector 180"/>
                  <p:cNvSpPr/>
                  <p:nvPr/>
                </p:nvSpPr>
                <p:spPr>
                  <a:xfrm flipV="1" rot="4536000">
                    <a:off x="6410880" y="494388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82" name="Curved Connector 181"/>
                  <p:cNvCxnSpPr/>
                  <p:nvPr/>
                </p:nvCxnSpPr>
                <p:spPr>
                  <a:xfrm flipV="1">
                    <a:off x="6389280" y="4961160"/>
                    <a:ext cx="23040" cy="19440"/>
                  </a:xfrm>
                  <a:prstGeom prst="curvedConnector4">
                    <a:avLst>
                      <a:gd name="adj1" fmla="val 53968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83" name="Curved Connector 182"/>
                  <p:cNvCxnSpPr/>
                  <p:nvPr/>
                </p:nvCxnSpPr>
                <p:spPr>
                  <a:xfrm flipV="1">
                    <a:off x="6400440" y="4971240"/>
                    <a:ext cx="23760" cy="19800"/>
                  </a:xfrm>
                  <a:prstGeom prst="curvedConnector4">
                    <a:avLst>
                      <a:gd name="adj1" fmla="val 5384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84" name="Curved Connector 183"/>
                  <p:cNvCxnSpPr/>
                  <p:nvPr/>
                </p:nvCxnSpPr>
                <p:spPr>
                  <a:xfrm flipV="1">
                    <a:off x="6376320" y="4992120"/>
                    <a:ext cx="23760" cy="19800"/>
                  </a:xfrm>
                  <a:prstGeom prst="curvedConnector4">
                    <a:avLst>
                      <a:gd name="adj1" fmla="val 5384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85" name="Curved Connector 184"/>
                  <p:cNvCxnSpPr/>
                  <p:nvPr/>
                </p:nvCxnSpPr>
                <p:spPr>
                  <a:xfrm flipV="1">
                    <a:off x="6366240" y="4981680"/>
                    <a:ext cx="23760" cy="19800"/>
                  </a:xfrm>
                  <a:prstGeom prst="curvedConnector4">
                    <a:avLst>
                      <a:gd name="adj1" fmla="val 523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86" name="Flowchart: Connector 185"/>
                  <p:cNvSpPr/>
                  <p:nvPr/>
                </p:nvSpPr>
                <p:spPr>
                  <a:xfrm flipV="1" rot="4536000">
                    <a:off x="6350760" y="500256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87" name="Group 451"/>
                <p:cNvGrpSpPr/>
                <p:nvPr/>
              </p:nvGrpSpPr>
              <p:grpSpPr>
                <a:xfrm>
                  <a:off x="5880600" y="5442840"/>
                  <a:ext cx="98640" cy="73080"/>
                  <a:chOff x="5880600" y="5442840"/>
                  <a:chExt cx="98640" cy="73080"/>
                </a:xfrm>
              </p:grpSpPr>
              <p:sp>
                <p:nvSpPr>
                  <p:cNvPr id="688" name="Flowchart: Connector 174"/>
                  <p:cNvSpPr/>
                  <p:nvPr/>
                </p:nvSpPr>
                <p:spPr>
                  <a:xfrm flipV="1" rot="5218800">
                    <a:off x="5952960" y="5442480"/>
                    <a:ext cx="248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89" name="Curved Connector 175"/>
                  <p:cNvCxnSpPr/>
                  <p:nvPr/>
                </p:nvCxnSpPr>
                <p:spPr>
                  <a:xfrm flipV="1">
                    <a:off x="5930640" y="5459760"/>
                    <a:ext cx="27000" cy="15120"/>
                  </a:xfrm>
                  <a:prstGeom prst="curvedConnector4">
                    <a:avLst>
                      <a:gd name="adj1" fmla="val 51351"/>
                      <a:gd name="adj2" fmla="val 487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0" name="Curved Connector 176"/>
                  <p:cNvCxnSpPr/>
                  <p:nvPr/>
                </p:nvCxnSpPr>
                <p:spPr>
                  <a:xfrm flipV="1">
                    <a:off x="5934240" y="5470200"/>
                    <a:ext cx="25920" cy="14760"/>
                  </a:xfrm>
                  <a:prstGeom prst="curvedConnector4">
                    <a:avLst>
                      <a:gd name="adj1" fmla="val 50704"/>
                      <a:gd name="adj2" fmla="val 475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1" name="Curved Connector 177"/>
                  <p:cNvCxnSpPr/>
                  <p:nvPr/>
                </p:nvCxnSpPr>
                <p:spPr>
                  <a:xfrm flipV="1">
                    <a:off x="5905080" y="5484600"/>
                    <a:ext cx="25920" cy="16920"/>
                  </a:xfrm>
                  <a:prstGeom prst="curvedConnector4">
                    <a:avLst>
                      <a:gd name="adj1" fmla="val 5070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2" name="Curved Connector 178"/>
                  <p:cNvCxnSpPr/>
                  <p:nvPr/>
                </p:nvCxnSpPr>
                <p:spPr>
                  <a:xfrm flipV="1">
                    <a:off x="5901480" y="5472720"/>
                    <a:ext cx="25920" cy="15120"/>
                  </a:xfrm>
                  <a:prstGeom prst="curvedConnector4">
                    <a:avLst>
                      <a:gd name="adj1" fmla="val 50704"/>
                      <a:gd name="adj2" fmla="val 487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93" name="Flowchart: Connector 179"/>
                  <p:cNvSpPr/>
                  <p:nvPr/>
                </p:nvSpPr>
                <p:spPr>
                  <a:xfrm flipV="1" rot="5218800">
                    <a:off x="5881680" y="5489280"/>
                    <a:ext cx="248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4" name="Group 452"/>
                <p:cNvGrpSpPr/>
                <p:nvPr/>
              </p:nvGrpSpPr>
              <p:grpSpPr>
                <a:xfrm>
                  <a:off x="6378480" y="4982760"/>
                  <a:ext cx="97920" cy="76680"/>
                  <a:chOff x="6378480" y="4982760"/>
                  <a:chExt cx="97920" cy="76680"/>
                </a:xfrm>
              </p:grpSpPr>
              <p:sp>
                <p:nvSpPr>
                  <p:cNvPr id="695" name="Flowchart: Connector 166"/>
                  <p:cNvSpPr/>
                  <p:nvPr/>
                </p:nvSpPr>
                <p:spPr>
                  <a:xfrm flipV="1" rot="15887400">
                    <a:off x="6379200" y="5031360"/>
                    <a:ext cx="270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96" name="Curved Connector 167"/>
                  <p:cNvCxnSpPr/>
                  <p:nvPr/>
                </p:nvCxnSpPr>
                <p:spPr>
                  <a:xfrm flipV="1" rot="10800000">
                    <a:off x="6403320" y="5032080"/>
                    <a:ext cx="26640" cy="15840"/>
                  </a:xfrm>
                  <a:prstGeom prst="curvedConnector4">
                    <a:avLst>
                      <a:gd name="adj1" fmla="val 50684"/>
                      <a:gd name="adj2" fmla="val 4883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7" name="Curved Connector 168"/>
                  <p:cNvCxnSpPr/>
                  <p:nvPr/>
                </p:nvCxnSpPr>
                <p:spPr>
                  <a:xfrm flipV="1" rot="10800000">
                    <a:off x="6395760" y="5017320"/>
                    <a:ext cx="27000" cy="16200"/>
                  </a:xfrm>
                  <a:prstGeom prst="curvedConnector4">
                    <a:avLst>
                      <a:gd name="adj1" fmla="val 51351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8" name="Curved Connector 169"/>
                  <p:cNvCxnSpPr/>
                  <p:nvPr/>
                </p:nvCxnSpPr>
                <p:spPr>
                  <a:xfrm flipV="1" rot="10800000">
                    <a:off x="6423840" y="5001120"/>
                    <a:ext cx="25200" cy="16200"/>
                  </a:xfrm>
                  <a:prstGeom prst="curvedConnector4">
                    <a:avLst>
                      <a:gd name="adj1" fmla="val 50724"/>
                      <a:gd name="adj2" fmla="val 4772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9" name="Curved Connector 170"/>
                  <p:cNvCxnSpPr/>
                  <p:nvPr/>
                </p:nvCxnSpPr>
                <p:spPr>
                  <a:xfrm flipV="1" rot="10800000">
                    <a:off x="6429960" y="5014080"/>
                    <a:ext cx="25200" cy="14760"/>
                  </a:xfrm>
                  <a:prstGeom prst="curvedConnector4">
                    <a:avLst>
                      <a:gd name="adj1" fmla="val 5072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00" name="Flowchart: Connector 173"/>
                  <p:cNvSpPr/>
                  <p:nvPr/>
                </p:nvSpPr>
                <p:spPr>
                  <a:xfrm flipV="1" rot="15887400">
                    <a:off x="6448680" y="4983840"/>
                    <a:ext cx="270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01" name="Group 453"/>
                <p:cNvGrpSpPr/>
                <p:nvPr/>
              </p:nvGrpSpPr>
              <p:grpSpPr>
                <a:xfrm>
                  <a:off x="5920560" y="5469480"/>
                  <a:ext cx="92520" cy="88920"/>
                  <a:chOff x="5920560" y="5469480"/>
                  <a:chExt cx="92520" cy="88920"/>
                </a:xfrm>
              </p:grpSpPr>
              <p:sp>
                <p:nvSpPr>
                  <p:cNvPr id="702" name="Flowchart: Connector 160"/>
                  <p:cNvSpPr/>
                  <p:nvPr/>
                </p:nvSpPr>
                <p:spPr>
                  <a:xfrm flipV="1" rot="4596600">
                    <a:off x="5984280" y="5471640"/>
                    <a:ext cx="2556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03" name="Curved Connector 161"/>
                  <p:cNvCxnSpPr/>
                  <p:nvPr/>
                </p:nvCxnSpPr>
                <p:spPr>
                  <a:xfrm flipV="1">
                    <a:off x="5963400" y="5488200"/>
                    <a:ext cx="22680" cy="19440"/>
                  </a:xfrm>
                  <a:prstGeom prst="curvedConnector4">
                    <a:avLst>
                      <a:gd name="adj1" fmla="val 51612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04" name="Curved Connector 162"/>
                  <p:cNvCxnSpPr/>
                  <p:nvPr/>
                </p:nvCxnSpPr>
                <p:spPr>
                  <a:xfrm flipV="1">
                    <a:off x="5974200" y="5498280"/>
                    <a:ext cx="23040" cy="20880"/>
                  </a:xfrm>
                  <a:prstGeom prst="curvedConnector4">
                    <a:avLst>
                      <a:gd name="adj1" fmla="val 52380"/>
                      <a:gd name="adj2" fmla="val 4912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05" name="Curved Connector 163"/>
                  <p:cNvCxnSpPr/>
                  <p:nvPr/>
                </p:nvCxnSpPr>
                <p:spPr>
                  <a:xfrm flipV="1">
                    <a:off x="5949000" y="5519520"/>
                    <a:ext cx="23400" cy="20520"/>
                  </a:xfrm>
                  <a:prstGeom prst="curvedConnector4">
                    <a:avLst>
                      <a:gd name="adj1" fmla="val 5468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06" name="Curved Connector 164"/>
                  <p:cNvCxnSpPr/>
                  <p:nvPr/>
                </p:nvCxnSpPr>
                <p:spPr>
                  <a:xfrm flipV="1">
                    <a:off x="5937840" y="5509440"/>
                    <a:ext cx="23040" cy="19440"/>
                  </a:xfrm>
                  <a:prstGeom prst="curvedConnector4">
                    <a:avLst>
                      <a:gd name="adj1" fmla="val 52380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07" name="Flowchart: Connector 165"/>
                  <p:cNvSpPr/>
                  <p:nvPr/>
                </p:nvSpPr>
                <p:spPr>
                  <a:xfrm flipV="1" rot="4596600">
                    <a:off x="5923080" y="5529600"/>
                    <a:ext cx="255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08" name="Group 454"/>
                <p:cNvGrpSpPr/>
                <p:nvPr/>
              </p:nvGrpSpPr>
              <p:grpSpPr>
                <a:xfrm>
                  <a:off x="5963760" y="5491800"/>
                  <a:ext cx="88920" cy="97560"/>
                  <a:chOff x="5963760" y="5491800"/>
                  <a:chExt cx="88920" cy="97560"/>
                </a:xfrm>
              </p:grpSpPr>
              <p:sp>
                <p:nvSpPr>
                  <p:cNvPr id="709" name="Flowchart: Connector 154"/>
                  <p:cNvSpPr/>
                  <p:nvPr/>
                </p:nvSpPr>
                <p:spPr>
                  <a:xfrm flipV="1" rot="4215000">
                    <a:off x="6022080" y="5495400"/>
                    <a:ext cx="2700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10" name="Curved Connector 155"/>
                  <p:cNvCxnSpPr/>
                  <p:nvPr/>
                </p:nvCxnSpPr>
                <p:spPr>
                  <a:xfrm flipV="1">
                    <a:off x="6006240" y="5514480"/>
                    <a:ext cx="20880" cy="21960"/>
                  </a:xfrm>
                  <a:prstGeom prst="curvedConnector4">
                    <a:avLst>
                      <a:gd name="adj1" fmla="val 5438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1" name="Curved Connector 156"/>
                  <p:cNvCxnSpPr/>
                  <p:nvPr/>
                </p:nvCxnSpPr>
                <p:spPr>
                  <a:xfrm flipV="1">
                    <a:off x="6015240" y="5523840"/>
                    <a:ext cx="20160" cy="21600"/>
                  </a:xfrm>
                  <a:prstGeom prst="curvedConnector4">
                    <a:avLst>
                      <a:gd name="adj1" fmla="val 54545"/>
                      <a:gd name="adj2" fmla="val 4915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2" name="Curved Connector 157"/>
                  <p:cNvCxnSpPr/>
                  <p:nvPr/>
                </p:nvCxnSpPr>
                <p:spPr>
                  <a:xfrm flipV="1">
                    <a:off x="5991120" y="5547240"/>
                    <a:ext cx="20520" cy="20520"/>
                  </a:xfrm>
                  <a:prstGeom prst="curvedConnector4">
                    <a:avLst>
                      <a:gd name="adj1" fmla="val 5535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3" name="Curved Connector 158"/>
                  <p:cNvCxnSpPr/>
                  <p:nvPr/>
                </p:nvCxnSpPr>
                <p:spPr>
                  <a:xfrm flipV="1">
                    <a:off x="5982120" y="5537520"/>
                    <a:ext cx="20880" cy="20880"/>
                  </a:xfrm>
                  <a:prstGeom prst="curvedConnector4">
                    <a:avLst>
                      <a:gd name="adj1" fmla="val 54385"/>
                      <a:gd name="adj2" fmla="val 4912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14" name="Flowchart: Connector 159"/>
                  <p:cNvSpPr/>
                  <p:nvPr/>
                </p:nvSpPr>
                <p:spPr>
                  <a:xfrm flipV="1" rot="4215000">
                    <a:off x="5966640" y="5559120"/>
                    <a:ext cx="2700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15" name="Group 455"/>
                <p:cNvGrpSpPr/>
                <p:nvPr/>
              </p:nvGrpSpPr>
              <p:grpSpPr>
                <a:xfrm>
                  <a:off x="6021360" y="5504760"/>
                  <a:ext cx="67320" cy="115200"/>
                  <a:chOff x="6021360" y="5504760"/>
                  <a:chExt cx="67320" cy="115200"/>
                </a:xfrm>
              </p:grpSpPr>
              <p:sp>
                <p:nvSpPr>
                  <p:cNvPr id="716" name="Flowchart: Connector 148"/>
                  <p:cNvSpPr/>
                  <p:nvPr/>
                </p:nvSpPr>
                <p:spPr>
                  <a:xfrm flipV="1" rot="3081000">
                    <a:off x="6057360" y="550980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17" name="Curved Connector 149"/>
                  <p:cNvCxnSpPr/>
                  <p:nvPr/>
                </p:nvCxnSpPr>
                <p:spPr>
                  <a:xfrm flipV="1">
                    <a:off x="6048720" y="5529240"/>
                    <a:ext cx="12960" cy="29160"/>
                  </a:xfrm>
                  <a:prstGeom prst="curvedConnector4">
                    <a:avLst>
                      <a:gd name="adj1" fmla="val 6571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8" name="Curved Connector 150"/>
                  <p:cNvCxnSpPr/>
                  <p:nvPr/>
                </p:nvCxnSpPr>
                <p:spPr>
                  <a:xfrm flipV="1">
                    <a:off x="6063840" y="5535720"/>
                    <a:ext cx="12240" cy="27000"/>
                  </a:xfrm>
                  <a:prstGeom prst="curvedConnector4">
                    <a:avLst>
                      <a:gd name="adj1" fmla="val 666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9" name="Curved Connector 151"/>
                  <p:cNvCxnSpPr/>
                  <p:nvPr/>
                </p:nvCxnSpPr>
                <p:spPr>
                  <a:xfrm flipV="1">
                    <a:off x="6048720" y="5565600"/>
                    <a:ext cx="12960" cy="27360"/>
                  </a:xfrm>
                  <a:prstGeom prst="curvedConnector4">
                    <a:avLst>
                      <a:gd name="adj1" fmla="val 68571"/>
                      <a:gd name="adj2" fmla="val 49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20" name="Curved Connector 152"/>
                  <p:cNvCxnSpPr/>
                  <p:nvPr/>
                </p:nvCxnSpPr>
                <p:spPr>
                  <a:xfrm flipV="1">
                    <a:off x="6037920" y="5559480"/>
                    <a:ext cx="12960" cy="27360"/>
                  </a:xfrm>
                  <a:prstGeom prst="curvedConnector4">
                    <a:avLst>
                      <a:gd name="adj1" fmla="val 68571"/>
                      <a:gd name="adj2" fmla="val 49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21" name="Flowchart: Connector 153"/>
                  <p:cNvSpPr/>
                  <p:nvPr/>
                </p:nvSpPr>
                <p:spPr>
                  <a:xfrm flipV="1" rot="3081000">
                    <a:off x="6026760" y="5588640"/>
                    <a:ext cx="2520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2" name="Group 456"/>
                <p:cNvGrpSpPr/>
                <p:nvPr/>
              </p:nvGrpSpPr>
              <p:grpSpPr>
                <a:xfrm>
                  <a:off x="6407280" y="5023440"/>
                  <a:ext cx="99000" cy="68040"/>
                  <a:chOff x="6407280" y="5023440"/>
                  <a:chExt cx="99000" cy="68040"/>
                </a:xfrm>
              </p:grpSpPr>
              <p:sp>
                <p:nvSpPr>
                  <p:cNvPr id="723" name="Flowchart: Connector 137"/>
                  <p:cNvSpPr/>
                  <p:nvPr/>
                </p:nvSpPr>
                <p:spPr>
                  <a:xfrm flipV="1" rot="16200000">
                    <a:off x="6408000" y="5065200"/>
                    <a:ext cx="2484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24" name="Curved Connector 138"/>
                  <p:cNvCxnSpPr/>
                  <p:nvPr/>
                </p:nvCxnSpPr>
                <p:spPr>
                  <a:xfrm flipV="1" rot="10800000">
                    <a:off x="6432120" y="5066640"/>
                    <a:ext cx="27360" cy="11520"/>
                  </a:xfrm>
                  <a:prstGeom prst="curvedConnector5">
                    <a:avLst>
                      <a:gd name="adj1" fmla="val 49333"/>
                      <a:gd name="adj2" fmla="val 48387"/>
                      <a:gd name="adj3" fmla="val 49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25" name="Curved Connector 140"/>
                  <p:cNvCxnSpPr/>
                  <p:nvPr/>
                </p:nvCxnSpPr>
                <p:spPr>
                  <a:xfrm flipV="1" rot="10800000">
                    <a:off x="6424920" y="5055480"/>
                    <a:ext cx="26280" cy="13320"/>
                  </a:xfrm>
                  <a:prstGeom prst="curvedConnector5">
                    <a:avLst>
                      <a:gd name="adj1" fmla="val 50000"/>
                      <a:gd name="adj2" fmla="val 50000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26" name="Curved Connector 141"/>
                  <p:cNvCxnSpPr/>
                  <p:nvPr/>
                </p:nvCxnSpPr>
                <p:spPr>
                  <a:xfrm flipV="1" rot="10800000">
                    <a:off x="6454440" y="5040720"/>
                    <a:ext cx="26280" cy="13320"/>
                  </a:xfrm>
                  <a:prstGeom prst="curvedConnector5">
                    <a:avLst>
                      <a:gd name="adj1" fmla="val 50000"/>
                      <a:gd name="adj2" fmla="val 50000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27" name="Curved Connector 145"/>
                  <p:cNvCxnSpPr/>
                  <p:nvPr/>
                </p:nvCxnSpPr>
                <p:spPr>
                  <a:xfrm flipV="1" rot="10800000">
                    <a:off x="6459840" y="5053680"/>
                    <a:ext cx="26280" cy="13320"/>
                  </a:xfrm>
                  <a:prstGeom prst="curvedConnector5">
                    <a:avLst>
                      <a:gd name="adj1" fmla="val 50000"/>
                      <a:gd name="adj2" fmla="val 50000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28" name="Flowchart: Connector 146"/>
                  <p:cNvSpPr/>
                  <p:nvPr/>
                </p:nvSpPr>
                <p:spPr>
                  <a:xfrm flipV="1" rot="16200000">
                    <a:off x="6480000" y="5023800"/>
                    <a:ext cx="266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9" name="Group 457"/>
                <p:cNvGrpSpPr/>
                <p:nvPr/>
              </p:nvGrpSpPr>
              <p:grpSpPr>
                <a:xfrm>
                  <a:off x="6426000" y="5069520"/>
                  <a:ext cx="108000" cy="60840"/>
                  <a:chOff x="6426000" y="5069520"/>
                  <a:chExt cx="108000" cy="60840"/>
                </a:xfrm>
              </p:grpSpPr>
              <p:sp>
                <p:nvSpPr>
                  <p:cNvPr id="730" name="Flowchart: Connector 131"/>
                  <p:cNvSpPr/>
                  <p:nvPr/>
                </p:nvSpPr>
                <p:spPr>
                  <a:xfrm flipV="1" rot="16666200">
                    <a:off x="6428160" y="510264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31" name="Curved Connector 132"/>
                  <p:cNvCxnSpPr/>
                  <p:nvPr/>
                </p:nvCxnSpPr>
                <p:spPr>
                  <a:xfrm flipV="1" rot="10800000">
                    <a:off x="6450480" y="5108400"/>
                    <a:ext cx="29160" cy="9360"/>
                  </a:xfrm>
                  <a:prstGeom prst="curvedConnector4">
                    <a:avLst>
                      <a:gd name="adj1" fmla="val 47500"/>
                      <a:gd name="adj2" fmla="val 104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32" name="Curved Connector 133"/>
                  <p:cNvCxnSpPr/>
                  <p:nvPr/>
                </p:nvCxnSpPr>
                <p:spPr>
                  <a:xfrm flipV="1" rot="10800000">
                    <a:off x="6445080" y="5095800"/>
                    <a:ext cx="29160" cy="9360"/>
                  </a:xfrm>
                  <a:prstGeom prst="curvedConnector4">
                    <a:avLst>
                      <a:gd name="adj1" fmla="val 47500"/>
                      <a:gd name="adj2" fmla="val 104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33" name="Curved Connector 134"/>
                  <p:cNvCxnSpPr/>
                  <p:nvPr/>
                </p:nvCxnSpPr>
                <p:spPr>
                  <a:xfrm flipV="1" rot="10800000">
                    <a:off x="6476760" y="5083560"/>
                    <a:ext cx="29160" cy="8640"/>
                  </a:xfrm>
                  <a:prstGeom prst="curvedConnector4">
                    <a:avLst>
                      <a:gd name="adj1" fmla="val 48750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34" name="Curved Connector 135"/>
                  <p:cNvCxnSpPr/>
                  <p:nvPr/>
                </p:nvCxnSpPr>
                <p:spPr>
                  <a:xfrm flipV="1" rot="10800000">
                    <a:off x="6480360" y="5097600"/>
                    <a:ext cx="29160" cy="8280"/>
                  </a:xfrm>
                  <a:prstGeom prst="curvedConnector4">
                    <a:avLst>
                      <a:gd name="adj1" fmla="val 48750"/>
                      <a:gd name="adj2" fmla="val 10454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35" name="Flowchart: Connector 136"/>
                  <p:cNvSpPr/>
                  <p:nvPr/>
                </p:nvSpPr>
                <p:spPr>
                  <a:xfrm flipV="1" rot="16666200">
                    <a:off x="6507000" y="507024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36" name="Group 458"/>
                <p:cNvGrpSpPr/>
                <p:nvPr/>
              </p:nvGrpSpPr>
              <p:grpSpPr>
                <a:xfrm>
                  <a:off x="6444360" y="5114520"/>
                  <a:ext cx="112680" cy="54720"/>
                  <a:chOff x="6444360" y="5114520"/>
                  <a:chExt cx="112680" cy="54720"/>
                </a:xfrm>
              </p:grpSpPr>
              <p:sp>
                <p:nvSpPr>
                  <p:cNvPr id="737" name="Flowchart: Connector 125"/>
                  <p:cNvSpPr/>
                  <p:nvPr/>
                </p:nvSpPr>
                <p:spPr>
                  <a:xfrm flipV="1" rot="17025600">
                    <a:off x="6446880" y="5140440"/>
                    <a:ext cx="2628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38" name="Curved Connector 126"/>
                  <p:cNvCxnSpPr/>
                  <p:nvPr/>
                </p:nvCxnSpPr>
                <p:spPr>
                  <a:xfrm flipV="1" rot="10800000">
                    <a:off x="6472080" y="5147640"/>
                    <a:ext cx="29880" cy="7560"/>
                  </a:xfrm>
                  <a:prstGeom prst="curvedConnector4">
                    <a:avLst>
                      <a:gd name="adj1" fmla="val 45121"/>
                      <a:gd name="adj2" fmla="val 11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39" name="Curved Connector 127"/>
                  <p:cNvCxnSpPr/>
                  <p:nvPr/>
                </p:nvCxnSpPr>
                <p:spPr>
                  <a:xfrm flipV="1" rot="10800000">
                    <a:off x="6467400" y="5133240"/>
                    <a:ext cx="29160" cy="7560"/>
                  </a:xfrm>
                  <a:prstGeom prst="curvedConnector4">
                    <a:avLst>
                      <a:gd name="adj1" fmla="val 46250"/>
                      <a:gd name="adj2" fmla="val -1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40" name="Curved Connector 128"/>
                  <p:cNvCxnSpPr/>
                  <p:nvPr/>
                </p:nvCxnSpPr>
                <p:spPr>
                  <a:xfrm flipV="1" rot="10800000">
                    <a:off x="6499800" y="5126040"/>
                    <a:ext cx="29160" cy="7920"/>
                  </a:xfrm>
                  <a:prstGeom prst="curvedConnector4">
                    <a:avLst>
                      <a:gd name="adj1" fmla="val 46250"/>
                      <a:gd name="adj2" fmla="val 10476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41" name="Curved Connector 129"/>
                  <p:cNvCxnSpPr/>
                  <p:nvPr/>
                </p:nvCxnSpPr>
                <p:spPr>
                  <a:xfrm flipV="1" rot="10800000">
                    <a:off x="6501600" y="5139360"/>
                    <a:ext cx="29880" cy="7560"/>
                  </a:xfrm>
                  <a:prstGeom prst="curvedConnector4">
                    <a:avLst>
                      <a:gd name="adj1" fmla="val 45121"/>
                      <a:gd name="adj2" fmla="val 11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42" name="Flowchart: Connector 130"/>
                  <p:cNvSpPr/>
                  <p:nvPr/>
                </p:nvSpPr>
                <p:spPr>
                  <a:xfrm flipV="1" rot="17025600">
                    <a:off x="6527520" y="5117400"/>
                    <a:ext cx="273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743" name="Oval 74"/>
              <p:cNvSpPr/>
              <p:nvPr/>
            </p:nvSpPr>
            <p:spPr>
              <a:xfrm>
                <a:off x="5891400" y="4968000"/>
                <a:ext cx="560160" cy="55476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44" name="Oval 75"/>
              <p:cNvSpPr/>
              <p:nvPr/>
            </p:nvSpPr>
            <p:spPr>
              <a:xfrm>
                <a:off x="6098760" y="5171040"/>
                <a:ext cx="135360" cy="136080"/>
              </a:xfrm>
              <a:prstGeom prst="ellipse">
                <a:avLst/>
              </a:prstGeom>
              <a:solidFill>
                <a:srgbClr val="2c2a2a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45" name="Oval 76"/>
              <p:cNvSpPr/>
              <p:nvPr/>
            </p:nvSpPr>
            <p:spPr>
              <a:xfrm>
                <a:off x="6250320" y="5266800"/>
                <a:ext cx="135360" cy="135000"/>
              </a:xfrm>
              <a:prstGeom prst="ellipse">
                <a:avLst/>
              </a:prstGeom>
              <a:solidFill>
                <a:srgbClr val="ff4983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46" name="Oval 77"/>
              <p:cNvSpPr/>
              <p:nvPr/>
            </p:nvSpPr>
            <p:spPr>
              <a:xfrm>
                <a:off x="6098760" y="4997880"/>
                <a:ext cx="135360" cy="136080"/>
              </a:xfrm>
              <a:prstGeom prst="ellipse">
                <a:avLst/>
              </a:prstGeom>
              <a:solidFill>
                <a:srgbClr val="79f4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47" name="Oval 78"/>
              <p:cNvSpPr/>
              <p:nvPr/>
            </p:nvSpPr>
            <p:spPr>
              <a:xfrm>
                <a:off x="5959800" y="5270400"/>
                <a:ext cx="135360" cy="13500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grpSp>
          <p:nvGrpSpPr>
            <p:cNvPr id="748" name="Group 2"/>
            <p:cNvGrpSpPr/>
            <p:nvPr/>
          </p:nvGrpSpPr>
          <p:grpSpPr>
            <a:xfrm>
              <a:off x="4503600" y="4727520"/>
              <a:ext cx="988560" cy="976680"/>
              <a:chOff x="4503600" y="4727520"/>
              <a:chExt cx="988560" cy="976680"/>
            </a:xfrm>
          </p:grpSpPr>
          <p:pic>
            <p:nvPicPr>
              <p:cNvPr id="749" name="Picture 16" descr=""/>
              <p:cNvPicPr/>
              <p:nvPr/>
            </p:nvPicPr>
            <p:blipFill>
              <a:blip r:embed="rId20"/>
              <a:stretch/>
            </p:blipFill>
            <p:spPr>
              <a:xfrm>
                <a:off x="4503600" y="4727520"/>
                <a:ext cx="874440" cy="9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TextBox 20"/>
              <p:cNvSpPr/>
              <p:nvPr/>
            </p:nvSpPr>
            <p:spPr>
              <a:xfrm>
                <a:off x="4538880" y="5397120"/>
                <a:ext cx="95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1400" spc="-1" strike="noStrike">
                    <a:solidFill>
                      <a:srgbClr val="141313"/>
                    </a:solidFill>
                    <a:latin typeface="Arial"/>
                  </a:rPr>
                  <a:t>55-60 nm</a:t>
                </a:r>
                <a:endParaRPr b="0" lang="en-US" sz="14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ntent Placeholder 4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656560" cy="486432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584280" y="725400"/>
            <a:ext cx="6299280" cy="4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Convergence of optimal choice at each level</a:t>
            </a:r>
            <a:endParaRPr b="0" lang="en-US" sz="19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title"/>
          </p:nvPr>
        </p:nvSpPr>
        <p:spPr>
          <a:xfrm>
            <a:off x="584280" y="171360"/>
            <a:ext cx="62992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41313"/>
                </a:solidFill>
                <a:latin typeface="Arial"/>
              </a:rPr>
              <a:t>AN INTERPLAY OF MULTIPLE PARAMETER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4" name="TextBox 1"/>
          <p:cNvSpPr/>
          <p:nvPr/>
        </p:nvSpPr>
        <p:spPr>
          <a:xfrm>
            <a:off x="0" y="4432320"/>
            <a:ext cx="29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Biocompatible polymers,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Metal, Glass, Polystyrene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55" name="TextBox 5"/>
          <p:cNvSpPr/>
          <p:nvPr/>
        </p:nvSpPr>
        <p:spPr>
          <a:xfrm>
            <a:off x="414720" y="136836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Polystyrene, Metal, Glass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56" name="TextBox 6"/>
          <p:cNvSpPr/>
          <p:nvPr/>
        </p:nvSpPr>
        <p:spPr>
          <a:xfrm>
            <a:off x="4716360" y="13431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profile, Aspect ratio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57" name="TextBox 7"/>
          <p:cNvSpPr/>
          <p:nvPr/>
        </p:nvSpPr>
        <p:spPr>
          <a:xfrm>
            <a:off x="6388200" y="4430880"/>
            <a:ext cx="281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Amine, Carboxy, Epoxy, polymeric, PEG-ylated, Lipid-based..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pic>
        <p:nvPicPr>
          <p:cNvPr id="758" name="Picture 3" descr=""/>
          <p:cNvPicPr/>
          <p:nvPr/>
        </p:nvPicPr>
        <p:blipFill>
          <a:blip r:embed="rId2"/>
          <a:stretch/>
        </p:blipFill>
        <p:spPr>
          <a:xfrm>
            <a:off x="2298600" y="5351400"/>
            <a:ext cx="1117800" cy="10508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3603600" y="5732640"/>
            <a:ext cx="965160" cy="9666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1" descr="sio2_100nmpoly.tif"/>
          <p:cNvPicPr/>
          <p:nvPr/>
        </p:nvPicPr>
        <p:blipFill>
          <a:blip r:embed="rId4"/>
          <a:srcRect l="29951" t="46603" r="45251" b="23333"/>
          <a:stretch/>
        </p:blipFill>
        <p:spPr>
          <a:xfrm>
            <a:off x="4716360" y="5732640"/>
            <a:ext cx="1060560" cy="9666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2" descr="D:\RESEARCH\DATA\SEM\Si structures\20100127\30+15deg-2.jpg"/>
          <p:cNvPicPr/>
          <p:nvPr/>
        </p:nvPicPr>
        <p:blipFill>
          <a:blip r:embed="rId5"/>
          <a:srcRect l="33340" t="67672" r="53793" b="20698"/>
          <a:stretch/>
        </p:blipFill>
        <p:spPr>
          <a:xfrm>
            <a:off x="5867280" y="5351400"/>
            <a:ext cx="1225800" cy="884160"/>
          </a:xfrm>
          <a:prstGeom prst="rect">
            <a:avLst/>
          </a:prstGeom>
          <a:ln w="0">
            <a:noFill/>
          </a:ln>
        </p:spPr>
      </p:pic>
      <p:sp>
        <p:nvSpPr>
          <p:cNvPr id="762" name="TextBox 5"/>
          <p:cNvSpPr/>
          <p:nvPr/>
        </p:nvSpPr>
        <p:spPr>
          <a:xfrm>
            <a:off x="0" y="2692440"/>
            <a:ext cx="360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Ligands, Charges, NPs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grpSp>
        <p:nvGrpSpPr>
          <p:cNvPr id="763" name="Group 28"/>
          <p:cNvGrpSpPr/>
          <p:nvPr/>
        </p:nvGrpSpPr>
        <p:grpSpPr>
          <a:xfrm>
            <a:off x="7192800" y="1103040"/>
            <a:ext cx="1168560" cy="1340280"/>
            <a:chOff x="7192800" y="1103040"/>
            <a:chExt cx="1168560" cy="1340280"/>
          </a:xfrm>
        </p:grpSpPr>
        <p:grpSp>
          <p:nvGrpSpPr>
            <p:cNvPr id="764" name="Group 12"/>
            <p:cNvGrpSpPr/>
            <p:nvPr/>
          </p:nvGrpSpPr>
          <p:grpSpPr>
            <a:xfrm>
              <a:off x="7209720" y="1895400"/>
              <a:ext cx="1151640" cy="547920"/>
              <a:chOff x="7209720" y="1895400"/>
              <a:chExt cx="1151640" cy="547920"/>
            </a:xfrm>
          </p:grpSpPr>
          <p:sp>
            <p:nvSpPr>
              <p:cNvPr id="765" name="Rectangle 32"/>
              <p:cNvSpPr/>
              <p:nvPr/>
            </p:nvSpPr>
            <p:spPr>
              <a:xfrm>
                <a:off x="7209720" y="2021400"/>
                <a:ext cx="1151640" cy="421920"/>
              </a:xfrm>
              <a:prstGeom prst="rect">
                <a:avLst/>
              </a:prstGeom>
              <a:gradFill rotWithShape="0">
                <a:gsLst>
                  <a:gs pos="0">
                    <a:srgbClr val="00b6c8"/>
                  </a:gs>
                  <a:gs pos="100000">
                    <a:srgbClr val="94f2ff"/>
                  </a:gs>
                </a:gsLst>
                <a:lin ang="16200000"/>
              </a:gra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66" name="Rectangle 30"/>
              <p:cNvSpPr/>
              <p:nvPr/>
            </p:nvSpPr>
            <p:spPr>
              <a:xfrm>
                <a:off x="7466760" y="1895400"/>
                <a:ext cx="216000" cy="35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67" name="Rectangle 31"/>
              <p:cNvSpPr/>
              <p:nvPr/>
            </p:nvSpPr>
            <p:spPr>
              <a:xfrm>
                <a:off x="7872120" y="1895400"/>
                <a:ext cx="216000" cy="35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grpSp>
          <p:nvGrpSpPr>
            <p:cNvPr id="768" name="Group 22"/>
            <p:cNvGrpSpPr/>
            <p:nvPr/>
          </p:nvGrpSpPr>
          <p:grpSpPr>
            <a:xfrm>
              <a:off x="7192800" y="1317960"/>
              <a:ext cx="1151640" cy="529560"/>
              <a:chOff x="7192800" y="1317960"/>
              <a:chExt cx="1151640" cy="529560"/>
            </a:xfrm>
          </p:grpSpPr>
          <p:sp>
            <p:nvSpPr>
              <p:cNvPr id="769" name="Rectangle 5"/>
              <p:cNvSpPr/>
              <p:nvPr/>
            </p:nvSpPr>
            <p:spPr>
              <a:xfrm>
                <a:off x="7408800" y="1317960"/>
                <a:ext cx="216000" cy="357840"/>
              </a:xfrm>
              <a:prstGeom prst="rect">
                <a:avLst/>
              </a:prstGeom>
              <a:gradFill rotWithShape="0">
                <a:gsLst>
                  <a:gs pos="0">
                    <a:srgbClr val="00b6c8"/>
                  </a:gs>
                  <a:gs pos="100000">
                    <a:srgbClr val="94f2ff"/>
                  </a:gs>
                </a:gsLst>
                <a:lin ang="16200000"/>
              </a:gra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70" name="Rectangle 23"/>
              <p:cNvSpPr/>
              <p:nvPr/>
            </p:nvSpPr>
            <p:spPr>
              <a:xfrm>
                <a:off x="7814160" y="1317960"/>
                <a:ext cx="216000" cy="357840"/>
              </a:xfrm>
              <a:prstGeom prst="rect">
                <a:avLst/>
              </a:prstGeom>
              <a:gradFill rotWithShape="0">
                <a:gsLst>
                  <a:gs pos="0">
                    <a:srgbClr val="00b6c8"/>
                  </a:gs>
                  <a:gs pos="100000">
                    <a:srgbClr val="94f2ff"/>
                  </a:gs>
                </a:gsLst>
                <a:lin ang="16200000"/>
              </a:gra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71" name="Rectangle 1"/>
              <p:cNvSpPr/>
              <p:nvPr/>
            </p:nvSpPr>
            <p:spPr>
              <a:xfrm>
                <a:off x="7192800" y="1559520"/>
                <a:ext cx="1151640" cy="288000"/>
              </a:xfrm>
              <a:prstGeom prst="rect">
                <a:avLst/>
              </a:prstGeom>
              <a:gradFill rotWithShape="0">
                <a:gsLst>
                  <a:gs pos="0">
                    <a:srgbClr val="00b6c8"/>
                  </a:gs>
                  <a:gs pos="100000">
                    <a:srgbClr val="94f2ff"/>
                  </a:gs>
                </a:gsLst>
                <a:lin ang="16200000"/>
              </a:gra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cxnSp>
          <p:nvCxnSpPr>
            <p:cNvPr id="772" name="Straight Arrow Connector 7"/>
            <p:cNvCxnSpPr/>
            <p:nvPr/>
          </p:nvCxnSpPr>
          <p:spPr>
            <a:xfrm>
              <a:off x="7516800" y="1103040"/>
              <a:ext cx="406080" cy="108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3" name="Straight Arrow Connector 9"/>
            <p:cNvCxnSpPr/>
            <p:nvPr/>
          </p:nvCxnSpPr>
          <p:spPr>
            <a:xfrm>
              <a:off x="7777800" y="1243440"/>
              <a:ext cx="288360" cy="108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4" name="Straight Arrow Connector 11"/>
            <p:cNvCxnSpPr/>
            <p:nvPr/>
          </p:nvCxnSpPr>
          <p:spPr>
            <a:xfrm>
              <a:off x="7264440" y="1317600"/>
              <a:ext cx="1080" cy="24012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5" name="Straight Arrow Connector 38"/>
            <p:cNvCxnSpPr/>
            <p:nvPr/>
          </p:nvCxnSpPr>
          <p:spPr>
            <a:xfrm>
              <a:off x="7835760" y="1943640"/>
              <a:ext cx="406080" cy="108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6" name="Straight Arrow Connector 39"/>
            <p:cNvCxnSpPr/>
            <p:nvPr/>
          </p:nvCxnSpPr>
          <p:spPr>
            <a:xfrm>
              <a:off x="7851600" y="2085120"/>
              <a:ext cx="238320" cy="108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7" name="Straight Arrow Connector 40"/>
            <p:cNvCxnSpPr/>
            <p:nvPr/>
          </p:nvCxnSpPr>
          <p:spPr>
            <a:xfrm>
              <a:off x="7614000" y="2007000"/>
              <a:ext cx="1080" cy="24012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778" name="AutoShape 1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2" descr=""/>
          <p:cNvPicPr/>
          <p:nvPr/>
        </p:nvPicPr>
        <p:blipFill>
          <a:blip r:embed="rId1"/>
          <a:stretch/>
        </p:blipFill>
        <p:spPr>
          <a:xfrm>
            <a:off x="4508640" y="6215040"/>
            <a:ext cx="2533680" cy="5205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84280" y="725400"/>
            <a:ext cx="62992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GB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584280" y="171360"/>
            <a:ext cx="62992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41313"/>
                </a:solidFill>
                <a:latin typeface="Arial"/>
              </a:rPr>
              <a:t>RELEVANT EXISTING PROJECT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grpSp>
        <p:nvGrpSpPr>
          <p:cNvPr id="782" name="Group 12"/>
          <p:cNvGrpSpPr/>
          <p:nvPr/>
        </p:nvGrpSpPr>
        <p:grpSpPr>
          <a:xfrm>
            <a:off x="6300720" y="5008680"/>
            <a:ext cx="649440" cy="215640"/>
            <a:chOff x="6300720" y="5008680"/>
            <a:chExt cx="649440" cy="215640"/>
          </a:xfrm>
        </p:grpSpPr>
        <p:sp>
          <p:nvSpPr>
            <p:cNvPr id="783" name="Rectangle 88"/>
            <p:cNvSpPr/>
            <p:nvPr/>
          </p:nvSpPr>
          <p:spPr>
            <a:xfrm>
              <a:off x="6300720" y="5008680"/>
              <a:ext cx="71280" cy="215640"/>
            </a:xfrm>
            <a:prstGeom prst="rect">
              <a:avLst/>
            </a:prstGeom>
            <a:solidFill>
              <a:srgbClr val="948a54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84" name="Rectangle 89"/>
            <p:cNvSpPr/>
            <p:nvPr/>
          </p:nvSpPr>
          <p:spPr>
            <a:xfrm>
              <a:off x="6445080" y="5008680"/>
              <a:ext cx="71280" cy="21564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85" name="Rectangle 90"/>
            <p:cNvSpPr/>
            <p:nvPr/>
          </p:nvSpPr>
          <p:spPr>
            <a:xfrm>
              <a:off x="6589800" y="5008680"/>
              <a:ext cx="71280" cy="2156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86" name="Rectangle 91"/>
            <p:cNvSpPr/>
            <p:nvPr/>
          </p:nvSpPr>
          <p:spPr>
            <a:xfrm>
              <a:off x="6734160" y="5008680"/>
              <a:ext cx="71280" cy="215640"/>
            </a:xfrm>
            <a:prstGeom prst="rect">
              <a:avLst/>
            </a:prstGeom>
            <a:solidFill>
              <a:srgbClr val="ff4983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87" name="Rectangle 92"/>
            <p:cNvSpPr/>
            <p:nvPr/>
          </p:nvSpPr>
          <p:spPr>
            <a:xfrm>
              <a:off x="6878880" y="5008680"/>
              <a:ext cx="71280" cy="215640"/>
            </a:xfrm>
            <a:prstGeom prst="rect">
              <a:avLst/>
            </a:prstGeom>
            <a:solidFill>
              <a:srgbClr val="25fffb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</p:grpSp>
      <p:sp>
        <p:nvSpPr>
          <p:cNvPr id="788" name="Rounded Rectangle 93"/>
          <p:cNvSpPr/>
          <p:nvPr/>
        </p:nvSpPr>
        <p:spPr>
          <a:xfrm>
            <a:off x="5221440" y="4578480"/>
            <a:ext cx="684000" cy="79200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792000"/>
              <a:gd name="textAreaBottom" fmla="*/ 758880 h 792000"/>
            </a:gdLst>
            <a:ahLst/>
            <a:rect l="textAreaLeft" t="textAreaTop" r="textAreaRight" b="textAreaBottom"/>
            <a:pathLst>
              <a:path w="21600" h="25009">
                <a:moveTo>
                  <a:pt x="3600" y="0"/>
                </a:moveTo>
                <a:arcTo wR="3600" hR="3600" stAng="16200000" swAng="-5400000"/>
                <a:lnTo>
                  <a:pt x="0" y="21409"/>
                </a:lnTo>
                <a:arcTo wR="3600" hR="3600" stAng="10800000" swAng="-5400000"/>
                <a:lnTo>
                  <a:pt x="18000" y="250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b6c8"/>
              </a:gs>
              <a:gs pos="100000">
                <a:srgbClr val="94f2ff"/>
              </a:gs>
            </a:gsLst>
            <a:lin ang="16200000"/>
          </a:gradFill>
          <a:ln w="9360">
            <a:solidFill>
              <a:srgbClr val="00a0a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89" name="Rectangle 94"/>
          <p:cNvSpPr/>
          <p:nvPr/>
        </p:nvSpPr>
        <p:spPr>
          <a:xfrm>
            <a:off x="4645080" y="5226120"/>
            <a:ext cx="2520720" cy="433440"/>
          </a:xfrm>
          <a:prstGeom prst="rect">
            <a:avLst/>
          </a:prstGeom>
          <a:gradFill rotWithShape="0">
            <a:gsLst>
              <a:gs pos="0">
                <a:srgbClr val="00b6c8"/>
              </a:gs>
              <a:gs pos="100000">
                <a:srgbClr val="94f2ff"/>
              </a:gs>
            </a:gsLst>
            <a:lin ang="16200000"/>
          </a:gradFill>
          <a:ln w="9360">
            <a:solidFill>
              <a:srgbClr val="00a0a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grpSp>
        <p:nvGrpSpPr>
          <p:cNvPr id="790" name="Group 16"/>
          <p:cNvGrpSpPr/>
          <p:nvPr/>
        </p:nvGrpSpPr>
        <p:grpSpPr>
          <a:xfrm>
            <a:off x="5365800" y="4794120"/>
            <a:ext cx="338040" cy="324000"/>
            <a:chOff x="5365800" y="4794120"/>
            <a:chExt cx="338040" cy="324000"/>
          </a:xfrm>
        </p:grpSpPr>
        <p:sp>
          <p:nvSpPr>
            <p:cNvPr id="791" name="Freeform 96"/>
            <p:cNvSpPr/>
            <p:nvPr/>
          </p:nvSpPr>
          <p:spPr>
            <a:xfrm>
              <a:off x="5365800" y="4794120"/>
              <a:ext cx="338040" cy="324000"/>
            </a:xfrm>
            <a:custGeom>
              <a:avLst/>
              <a:gdLst/>
              <a:ahLst/>
              <a:rect l="l" t="t" r="r" b="b"/>
              <a:pathLst>
                <a:path w="928990" h="437524">
                  <a:moveTo>
                    <a:pt x="13803" y="224164"/>
                  </a:moveTo>
                  <a:cubicBezTo>
                    <a:pt x="17190" y="207231"/>
                    <a:pt x="17082" y="175981"/>
                    <a:pt x="23963" y="153044"/>
                  </a:cubicBezTo>
                  <a:cubicBezTo>
                    <a:pt x="35222" y="115515"/>
                    <a:pt x="45856" y="124793"/>
                    <a:pt x="74763" y="112404"/>
                  </a:cubicBezTo>
                  <a:cubicBezTo>
                    <a:pt x="162646" y="74740"/>
                    <a:pt x="74402" y="105751"/>
                    <a:pt x="145883" y="81924"/>
                  </a:cubicBezTo>
                  <a:cubicBezTo>
                    <a:pt x="372233" y="104559"/>
                    <a:pt x="337031" y="110930"/>
                    <a:pt x="572603" y="92084"/>
                  </a:cubicBezTo>
                  <a:cubicBezTo>
                    <a:pt x="603005" y="89652"/>
                    <a:pt x="607469" y="74651"/>
                    <a:pt x="633563" y="61604"/>
                  </a:cubicBezTo>
                  <a:cubicBezTo>
                    <a:pt x="643142" y="56815"/>
                    <a:pt x="653883" y="54831"/>
                    <a:pt x="664043" y="51444"/>
                  </a:cubicBezTo>
                  <a:cubicBezTo>
                    <a:pt x="667430" y="41284"/>
                    <a:pt x="667513" y="29327"/>
                    <a:pt x="674203" y="20964"/>
                  </a:cubicBezTo>
                  <a:cubicBezTo>
                    <a:pt x="701671" y="-13371"/>
                    <a:pt x="726637" y="3003"/>
                    <a:pt x="765643" y="10804"/>
                  </a:cubicBezTo>
                  <a:cubicBezTo>
                    <a:pt x="779335" y="13542"/>
                    <a:pt x="792736" y="17577"/>
                    <a:pt x="806283" y="20964"/>
                  </a:cubicBezTo>
                  <a:cubicBezTo>
                    <a:pt x="816443" y="27737"/>
                    <a:pt x="825841" y="35823"/>
                    <a:pt x="836763" y="41284"/>
                  </a:cubicBezTo>
                  <a:cubicBezTo>
                    <a:pt x="846342" y="46073"/>
                    <a:pt x="858880" y="44754"/>
                    <a:pt x="867243" y="51444"/>
                  </a:cubicBezTo>
                  <a:cubicBezTo>
                    <a:pt x="891507" y="70855"/>
                    <a:pt x="885452" y="87863"/>
                    <a:pt x="897723" y="112404"/>
                  </a:cubicBezTo>
                  <a:cubicBezTo>
                    <a:pt x="903184" y="123326"/>
                    <a:pt x="911270" y="132724"/>
                    <a:pt x="918043" y="142884"/>
                  </a:cubicBezTo>
                  <a:cubicBezTo>
                    <a:pt x="928225" y="203977"/>
                    <a:pt x="940418" y="230213"/>
                    <a:pt x="907883" y="295284"/>
                  </a:cubicBezTo>
                  <a:cubicBezTo>
                    <a:pt x="903094" y="304863"/>
                    <a:pt x="887858" y="303121"/>
                    <a:pt x="877403" y="305444"/>
                  </a:cubicBezTo>
                  <a:cubicBezTo>
                    <a:pt x="857293" y="309913"/>
                    <a:pt x="836998" y="314234"/>
                    <a:pt x="816443" y="315604"/>
                  </a:cubicBezTo>
                  <a:cubicBezTo>
                    <a:pt x="684482" y="324401"/>
                    <a:pt x="552283" y="329151"/>
                    <a:pt x="420203" y="335924"/>
                  </a:cubicBezTo>
                  <a:cubicBezTo>
                    <a:pt x="396496" y="339311"/>
                    <a:pt x="371318" y="337190"/>
                    <a:pt x="349083" y="346084"/>
                  </a:cubicBezTo>
                  <a:cubicBezTo>
                    <a:pt x="321342" y="357180"/>
                    <a:pt x="316907" y="388420"/>
                    <a:pt x="298283" y="407044"/>
                  </a:cubicBezTo>
                  <a:cubicBezTo>
                    <a:pt x="274895" y="430432"/>
                    <a:pt x="258253" y="429751"/>
                    <a:pt x="227163" y="437524"/>
                  </a:cubicBezTo>
                  <a:cubicBezTo>
                    <a:pt x="166203" y="430751"/>
                    <a:pt x="101231" y="439983"/>
                    <a:pt x="44283" y="417204"/>
                  </a:cubicBezTo>
                  <a:cubicBezTo>
                    <a:pt x="24396" y="409249"/>
                    <a:pt x="28164" y="377247"/>
                    <a:pt x="23963" y="356244"/>
                  </a:cubicBezTo>
                  <a:cubicBezTo>
                    <a:pt x="17190" y="322377"/>
                    <a:pt x="11409" y="288297"/>
                    <a:pt x="3643" y="254644"/>
                  </a:cubicBezTo>
                  <a:cubicBezTo>
                    <a:pt x="-7588" y="205977"/>
                    <a:pt x="10416" y="241097"/>
                    <a:pt x="13803" y="224164"/>
                  </a:cubicBezTo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a0a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92" name="Oval 97"/>
            <p:cNvSpPr/>
            <p:nvPr/>
          </p:nvSpPr>
          <p:spPr>
            <a:xfrm>
              <a:off x="5497560" y="4922640"/>
              <a:ext cx="79200" cy="66600"/>
            </a:xfrm>
            <a:prstGeom prst="ellipse">
              <a:avLst/>
            </a:prstGeom>
            <a:solidFill>
              <a:srgbClr val="c00000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</p:grpSp>
      <p:sp>
        <p:nvSpPr>
          <p:cNvPr id="793" name="TextBox 17"/>
          <p:cNvSpPr/>
          <p:nvPr/>
        </p:nvSpPr>
        <p:spPr>
          <a:xfrm>
            <a:off x="6306840" y="439416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DNA Barcode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94" name="TextBox 18"/>
          <p:cNvSpPr/>
          <p:nvPr/>
        </p:nvSpPr>
        <p:spPr>
          <a:xfrm>
            <a:off x="4943160" y="52894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Functionalized Glass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95" name="Rectangle 100"/>
          <p:cNvSpPr/>
          <p:nvPr/>
        </p:nvSpPr>
        <p:spPr>
          <a:xfrm>
            <a:off x="4638600" y="4124160"/>
            <a:ext cx="2543400" cy="289080"/>
          </a:xfrm>
          <a:prstGeom prst="rect">
            <a:avLst/>
          </a:prstGeom>
          <a:gradFill rotWithShape="0">
            <a:gsLst>
              <a:gs pos="0">
                <a:srgbClr val="00b6c8"/>
              </a:gs>
              <a:gs pos="100000">
                <a:srgbClr val="94f2ff"/>
              </a:gs>
            </a:gsLst>
            <a:lin ang="16200000"/>
          </a:gradFill>
          <a:ln w="9360">
            <a:solidFill>
              <a:srgbClr val="00a0a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MS Substrate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cxnSp>
        <p:nvCxnSpPr>
          <p:cNvPr id="796" name="Straight Arrow Connector 101"/>
          <p:cNvCxnSpPr/>
          <p:nvPr/>
        </p:nvCxnSpPr>
        <p:spPr>
          <a:xfrm flipH="1">
            <a:off x="6589080" y="4722480"/>
            <a:ext cx="361080" cy="267120"/>
          </a:xfrm>
          <a:prstGeom prst="straightConnector1">
            <a:avLst/>
          </a:prstGeom>
          <a:ln w="25560">
            <a:solidFill>
              <a:srgbClr val="00a0ae"/>
            </a:solidFill>
            <a:miter/>
            <a:tailEnd len="med" type="triangle" w="med"/>
          </a:ln>
        </p:spPr>
      </p:cxnSp>
      <p:grpSp>
        <p:nvGrpSpPr>
          <p:cNvPr id="797" name="Group 102"/>
          <p:cNvGrpSpPr/>
          <p:nvPr/>
        </p:nvGrpSpPr>
        <p:grpSpPr>
          <a:xfrm>
            <a:off x="6265800" y="4435560"/>
            <a:ext cx="2664000" cy="2349360"/>
            <a:chOff x="6265800" y="4435560"/>
            <a:chExt cx="2664000" cy="2349360"/>
          </a:xfrm>
        </p:grpSpPr>
        <p:grpSp>
          <p:nvGrpSpPr>
            <p:cNvPr id="798" name="Group 36"/>
            <p:cNvGrpSpPr/>
            <p:nvPr/>
          </p:nvGrpSpPr>
          <p:grpSpPr>
            <a:xfrm>
              <a:off x="7804440" y="4435560"/>
              <a:ext cx="1125360" cy="1145880"/>
              <a:chOff x="7804440" y="4435560"/>
              <a:chExt cx="1125360" cy="1145880"/>
            </a:xfrm>
          </p:grpSpPr>
          <p:pic>
            <p:nvPicPr>
              <p:cNvPr id="799" name="Picture 20" descr="03 23"/>
              <p:cNvPicPr/>
              <p:nvPr/>
            </p:nvPicPr>
            <p:blipFill>
              <a:blip r:embed="rId2"/>
              <a:srcRect l="38830" t="13289" r="21284" b="46086"/>
              <a:stretch/>
            </p:blipFill>
            <p:spPr>
              <a:xfrm>
                <a:off x="7804440" y="4435560"/>
                <a:ext cx="1125360" cy="114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Rectangle 111"/>
              <p:cNvSpPr/>
              <p:nvPr/>
            </p:nvSpPr>
            <p:spPr>
              <a:xfrm>
                <a:off x="7964280" y="5451480"/>
                <a:ext cx="388800" cy="5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grpSp>
          <p:nvGrpSpPr>
            <p:cNvPr id="801" name="Group 26"/>
            <p:cNvGrpSpPr/>
            <p:nvPr/>
          </p:nvGrpSpPr>
          <p:grpSpPr>
            <a:xfrm>
              <a:off x="7338960" y="5646600"/>
              <a:ext cx="1568880" cy="1138320"/>
              <a:chOff x="7338960" y="5646600"/>
              <a:chExt cx="1568880" cy="1138320"/>
            </a:xfrm>
          </p:grpSpPr>
          <p:pic>
            <p:nvPicPr>
              <p:cNvPr id="802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7338960" y="5646600"/>
                <a:ext cx="1568880" cy="11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7348320" y="6610320"/>
                <a:ext cx="155952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4" name="Group 35"/>
            <p:cNvGrpSpPr/>
            <p:nvPr/>
          </p:nvGrpSpPr>
          <p:grpSpPr>
            <a:xfrm>
              <a:off x="6265800" y="5224320"/>
              <a:ext cx="1073160" cy="991080"/>
              <a:chOff x="6265800" y="5224320"/>
              <a:chExt cx="1073160" cy="991080"/>
            </a:xfrm>
          </p:grpSpPr>
          <p:cxnSp>
            <p:nvCxnSpPr>
              <p:cNvPr id="805" name="Elbow Connector 106"/>
              <p:cNvCxnSpPr>
                <a:stCxn id="802" idx="1"/>
                <a:endCxn id="806" idx="2"/>
              </p:cNvCxnSpPr>
              <p:nvPr/>
            </p:nvCxnSpPr>
            <p:spPr>
              <a:xfrm rot="10800000">
                <a:off x="6642720" y="5269320"/>
                <a:ext cx="696240" cy="946080"/>
              </a:xfrm>
              <a:prstGeom prst="bentConnector2">
                <a:avLst/>
              </a:prstGeom>
              <a:ln w="25560">
                <a:solidFill>
                  <a:srgbClr val="00a0ae"/>
                </a:solidFill>
                <a:miter/>
                <a:tailEnd len="med" type="triangle" w="med"/>
              </a:ln>
            </p:spPr>
          </p:cxnSp>
          <p:sp>
            <p:nvSpPr>
              <p:cNvPr id="806" name="Rectangle 107"/>
              <p:cNvSpPr/>
              <p:nvPr/>
            </p:nvSpPr>
            <p:spPr>
              <a:xfrm>
                <a:off x="6265800" y="5224320"/>
                <a:ext cx="754200" cy="45720"/>
              </a:xfrm>
              <a:prstGeom prst="rect">
                <a:avLst/>
              </a:prstGeom>
              <a:solidFill>
                <a:srgbClr val="eeece1"/>
              </a:soli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</p:grpSp>
      <p:pic>
        <p:nvPicPr>
          <p:cNvPr id="807" name="Picture 30722" descr=""/>
          <p:cNvPicPr/>
          <p:nvPr/>
        </p:nvPicPr>
        <p:blipFill>
          <a:blip r:embed="rId5"/>
          <a:stretch/>
        </p:blipFill>
        <p:spPr>
          <a:xfrm>
            <a:off x="4627440" y="3186000"/>
            <a:ext cx="3778200" cy="860400"/>
          </a:xfrm>
          <a:prstGeom prst="rect">
            <a:avLst/>
          </a:prstGeom>
          <a:ln w="0">
            <a:noFill/>
          </a:ln>
        </p:spPr>
      </p:pic>
      <p:grpSp>
        <p:nvGrpSpPr>
          <p:cNvPr id="808" name="Group 57343"/>
          <p:cNvGrpSpPr/>
          <p:nvPr/>
        </p:nvGrpSpPr>
        <p:grpSpPr>
          <a:xfrm>
            <a:off x="4232160" y="1236600"/>
            <a:ext cx="4230720" cy="1762200"/>
            <a:chOff x="4232160" y="1236600"/>
            <a:chExt cx="4230720" cy="1762200"/>
          </a:xfrm>
        </p:grpSpPr>
        <p:grpSp>
          <p:nvGrpSpPr>
            <p:cNvPr id="809" name="Group 31"/>
            <p:cNvGrpSpPr/>
            <p:nvPr/>
          </p:nvGrpSpPr>
          <p:grpSpPr>
            <a:xfrm>
              <a:off x="4509720" y="1236600"/>
              <a:ext cx="3953160" cy="1571040"/>
              <a:chOff x="4509720" y="1236600"/>
              <a:chExt cx="3953160" cy="1571040"/>
            </a:xfrm>
          </p:grpSpPr>
          <p:pic>
            <p:nvPicPr>
              <p:cNvPr id="810" name="Picture 15" descr=""/>
              <p:cNvPicPr/>
              <p:nvPr/>
            </p:nvPicPr>
            <p:blipFill>
              <a:blip r:embed="rId6"/>
              <a:srcRect l="9581" t="18365" r="25000" b="27744"/>
              <a:stretch/>
            </p:blipFill>
            <p:spPr>
              <a:xfrm>
                <a:off x="7831440" y="1334160"/>
                <a:ext cx="631440" cy="693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1" name="Group 33"/>
              <p:cNvGrpSpPr/>
              <p:nvPr/>
            </p:nvGrpSpPr>
            <p:grpSpPr>
              <a:xfrm>
                <a:off x="7293960" y="2004840"/>
                <a:ext cx="788400" cy="802800"/>
                <a:chOff x="7293960" y="2004840"/>
                <a:chExt cx="788400" cy="802800"/>
              </a:xfrm>
            </p:grpSpPr>
            <p:sp>
              <p:nvSpPr>
                <p:cNvPr id="812" name="Oval 40"/>
                <p:cNvSpPr/>
                <p:nvPr/>
              </p:nvSpPr>
              <p:spPr>
                <a:xfrm flipV="1">
                  <a:off x="7949880" y="2148480"/>
                  <a:ext cx="6372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3" name="Oval 41"/>
                <p:cNvSpPr/>
                <p:nvPr/>
              </p:nvSpPr>
              <p:spPr>
                <a:xfrm flipV="1">
                  <a:off x="7986600" y="222912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4" name="Oval 42"/>
                <p:cNvSpPr/>
                <p:nvPr/>
              </p:nvSpPr>
              <p:spPr>
                <a:xfrm flipV="1">
                  <a:off x="8018640" y="2311560"/>
                  <a:ext cx="6372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5" name="Oval 43"/>
                <p:cNvSpPr/>
                <p:nvPr/>
              </p:nvSpPr>
              <p:spPr>
                <a:xfrm flipV="1">
                  <a:off x="8018640" y="239796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6" name="Oval 44"/>
                <p:cNvSpPr/>
                <p:nvPr/>
              </p:nvSpPr>
              <p:spPr>
                <a:xfrm flipV="1">
                  <a:off x="8017560" y="24814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7" name="Oval 45"/>
                <p:cNvSpPr/>
                <p:nvPr/>
              </p:nvSpPr>
              <p:spPr>
                <a:xfrm flipV="1">
                  <a:off x="7959240" y="2575800"/>
                  <a:ext cx="6372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8" name="Oval 46"/>
                <p:cNvSpPr/>
                <p:nvPr/>
              </p:nvSpPr>
              <p:spPr>
                <a:xfrm flipV="1">
                  <a:off x="7894080" y="264852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9" name="Oval 47"/>
                <p:cNvSpPr/>
                <p:nvPr/>
              </p:nvSpPr>
              <p:spPr>
                <a:xfrm flipV="1">
                  <a:off x="7809840" y="269712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0" name="Oval 48"/>
                <p:cNvSpPr/>
                <p:nvPr/>
              </p:nvSpPr>
              <p:spPr>
                <a:xfrm flipV="1">
                  <a:off x="7705800" y="2743560"/>
                  <a:ext cx="6156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1" name="Oval 49"/>
                <p:cNvSpPr/>
                <p:nvPr/>
              </p:nvSpPr>
              <p:spPr>
                <a:xfrm flipV="1">
                  <a:off x="7585560" y="272916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2" name="Oval 50"/>
                <p:cNvSpPr/>
                <p:nvPr/>
              </p:nvSpPr>
              <p:spPr>
                <a:xfrm flipV="1">
                  <a:off x="7454520" y="26794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3" name="Oval 51"/>
                <p:cNvSpPr/>
                <p:nvPr/>
              </p:nvSpPr>
              <p:spPr>
                <a:xfrm flipV="1">
                  <a:off x="7379640" y="25984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4" name="Oval 52"/>
                <p:cNvSpPr/>
                <p:nvPr/>
              </p:nvSpPr>
              <p:spPr>
                <a:xfrm flipV="1">
                  <a:off x="7324560" y="2512080"/>
                  <a:ext cx="6156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5" name="Oval 53"/>
                <p:cNvSpPr/>
                <p:nvPr/>
              </p:nvSpPr>
              <p:spPr>
                <a:xfrm flipV="1">
                  <a:off x="7293960" y="2358000"/>
                  <a:ext cx="6156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6" name="Oval 54"/>
                <p:cNvSpPr/>
                <p:nvPr/>
              </p:nvSpPr>
              <p:spPr>
                <a:xfrm flipV="1">
                  <a:off x="7318080" y="2246040"/>
                  <a:ext cx="6156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7" name="Oval 55"/>
                <p:cNvSpPr/>
                <p:nvPr/>
              </p:nvSpPr>
              <p:spPr>
                <a:xfrm flipV="1">
                  <a:off x="7376040" y="2148480"/>
                  <a:ext cx="6156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8" name="Oval 56"/>
                <p:cNvSpPr/>
                <p:nvPr/>
              </p:nvSpPr>
              <p:spPr>
                <a:xfrm flipV="1">
                  <a:off x="7454520" y="20692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9" name="Oval 57"/>
                <p:cNvSpPr/>
                <p:nvPr/>
              </p:nvSpPr>
              <p:spPr>
                <a:xfrm flipV="1">
                  <a:off x="7582320" y="201600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0" name="Oval 58"/>
                <p:cNvSpPr/>
                <p:nvPr/>
              </p:nvSpPr>
              <p:spPr>
                <a:xfrm flipV="1">
                  <a:off x="7674840" y="20044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1" name="Oval 59"/>
                <p:cNvSpPr/>
                <p:nvPr/>
              </p:nvSpPr>
              <p:spPr>
                <a:xfrm flipV="1">
                  <a:off x="7792920" y="204300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2" name="Oval 60"/>
                <p:cNvSpPr/>
                <p:nvPr/>
              </p:nvSpPr>
              <p:spPr>
                <a:xfrm flipV="1">
                  <a:off x="7868880" y="2079720"/>
                  <a:ext cx="6372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3" name="Oval 34"/>
              <p:cNvSpPr/>
              <p:nvPr/>
            </p:nvSpPr>
            <p:spPr>
              <a:xfrm>
                <a:off x="7365960" y="2081880"/>
                <a:ext cx="649080" cy="647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grpSp>
            <p:nvGrpSpPr>
              <p:cNvPr id="834" name="Group 35"/>
              <p:cNvGrpSpPr/>
              <p:nvPr/>
            </p:nvGrpSpPr>
            <p:grpSpPr>
              <a:xfrm>
                <a:off x="7539120" y="1531080"/>
                <a:ext cx="635760" cy="705960"/>
                <a:chOff x="7539120" y="1531080"/>
                <a:chExt cx="635760" cy="705960"/>
              </a:xfrm>
            </p:grpSpPr>
            <p:sp>
              <p:nvSpPr>
                <p:cNvPr id="835" name="Oval 37"/>
                <p:cNvSpPr/>
                <p:nvPr/>
              </p:nvSpPr>
              <p:spPr>
                <a:xfrm rot="1561200">
                  <a:off x="7567560" y="1970640"/>
                  <a:ext cx="323640" cy="205920"/>
                </a:xfrm>
                <a:prstGeom prst="ellipse">
                  <a:avLst/>
                </a:prstGeom>
                <a:noFill/>
                <a:ln w="25560">
                  <a:solidFill>
                    <a:srgbClr val="ce004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6" name="Straight Connector 38"/>
                <p:cNvSpPr/>
                <p:nvPr/>
              </p:nvSpPr>
              <p:spPr>
                <a:xfrm flipV="1">
                  <a:off x="7588800" y="1531080"/>
                  <a:ext cx="211680" cy="468360"/>
                </a:xfrm>
                <a:prstGeom prst="line">
                  <a:avLst/>
                </a:prstGeom>
                <a:ln w="9360">
                  <a:solidFill>
                    <a:srgbClr val="0093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7" name="Straight Connector 39"/>
                <p:cNvSpPr/>
                <p:nvPr/>
              </p:nvSpPr>
              <p:spPr>
                <a:xfrm flipV="1">
                  <a:off x="7835400" y="2046960"/>
                  <a:ext cx="339480" cy="139680"/>
                </a:xfrm>
                <a:prstGeom prst="line">
                  <a:avLst/>
                </a:prstGeom>
                <a:ln w="9360">
                  <a:solidFill>
                    <a:srgbClr val="0093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8" name="TextBox 36"/>
              <p:cNvSpPr/>
              <p:nvPr/>
            </p:nvSpPr>
            <p:spPr>
              <a:xfrm>
                <a:off x="4509720" y="1236600"/>
                <a:ext cx="2041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141313"/>
                    </a:solidFill>
                    <a:latin typeface="Calibri"/>
                  </a:rPr>
                  <a:t>Functionalized Microcarriers</a:t>
                </a:r>
                <a:endParaRPr b="0" lang="en-US" sz="24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pic>
          <p:nvPicPr>
            <p:cNvPr id="839" name="Picture 2" descr=""/>
            <p:cNvPicPr/>
            <p:nvPr/>
          </p:nvPicPr>
          <p:blipFill>
            <a:blip r:embed="rId7"/>
            <a:srcRect l="0" t="10812" r="0" b="0"/>
            <a:stretch/>
          </p:blipFill>
          <p:spPr>
            <a:xfrm>
              <a:off x="4232160" y="1965240"/>
              <a:ext cx="2557440" cy="103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0" name="Picture 4" descr="European Commission logo"/>
          <p:cNvPicPr/>
          <p:nvPr/>
        </p:nvPicPr>
        <p:blipFill>
          <a:blip r:embed="rId8"/>
          <a:stretch/>
        </p:blipFill>
        <p:spPr>
          <a:xfrm>
            <a:off x="2340000" y="1289160"/>
            <a:ext cx="1612800" cy="11160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2" descr="IDS-FunMat"/>
          <p:cNvPicPr/>
          <p:nvPr/>
        </p:nvPicPr>
        <p:blipFill>
          <a:blip r:embed="rId9"/>
          <a:srcRect l="72205" t="0" r="0" b="0"/>
          <a:stretch/>
        </p:blipFill>
        <p:spPr>
          <a:xfrm>
            <a:off x="446040" y="1536840"/>
            <a:ext cx="1854360" cy="666720"/>
          </a:xfrm>
          <a:prstGeom prst="rect">
            <a:avLst/>
          </a:prstGeom>
          <a:ln w="0">
            <a:noFill/>
          </a:ln>
        </p:spPr>
      </p:pic>
      <p:sp>
        <p:nvSpPr>
          <p:cNvPr id="842" name="Straight Connector 57346"/>
          <p:cNvSpPr/>
          <p:nvPr/>
        </p:nvSpPr>
        <p:spPr>
          <a:xfrm>
            <a:off x="4627440" y="2979720"/>
            <a:ext cx="0" cy="0"/>
          </a:xfrm>
          <a:prstGeom prst="line">
            <a:avLst/>
          </a:prstGeom>
          <a:ln w="25560">
            <a:solidFill>
              <a:srgbClr val="00a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843" name="Straight Connector 57349"/>
          <p:cNvSpPr/>
          <p:nvPr/>
        </p:nvSpPr>
        <p:spPr>
          <a:xfrm>
            <a:off x="4356000" y="3068640"/>
            <a:ext cx="4680000" cy="0"/>
          </a:xfrm>
          <a:prstGeom prst="line">
            <a:avLst/>
          </a:prstGeom>
          <a:ln w="25560">
            <a:solidFill>
              <a:srgbClr val="00a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844" name="Straight Connector 57351"/>
          <p:cNvSpPr/>
          <p:nvPr/>
        </p:nvSpPr>
        <p:spPr>
          <a:xfrm>
            <a:off x="4211640" y="1289160"/>
            <a:ext cx="0" cy="4186080"/>
          </a:xfrm>
          <a:prstGeom prst="line">
            <a:avLst/>
          </a:prstGeom>
          <a:ln w="25560">
            <a:solidFill>
              <a:srgbClr val="00a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cxnSp>
        <p:nvCxnSpPr>
          <p:cNvPr id="845" name="Straight Arrow Connector 57355"/>
          <p:cNvCxnSpPr>
            <a:stCxn id="833" idx="2"/>
            <a:endCxn id="833" idx="6"/>
          </p:cNvCxnSpPr>
          <p:nvPr/>
        </p:nvCxnSpPr>
        <p:spPr>
          <a:xfrm>
            <a:off x="7365960" y="2404800"/>
            <a:ext cx="650160" cy="1080"/>
          </a:xfrm>
          <a:prstGeom prst="straightConnector1">
            <a:avLst/>
          </a:prstGeom>
          <a:ln w="25560">
            <a:solidFill>
              <a:srgbClr val="00a0ae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6" name="TextBox 57356"/>
          <p:cNvSpPr/>
          <p:nvPr/>
        </p:nvSpPr>
        <p:spPr>
          <a:xfrm>
            <a:off x="7953840" y="2666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100-300 </a:t>
            </a:r>
            <a:r>
              <a:rPr b="0" lang="en-US" sz="1800" spc="-1" strike="noStrike">
                <a:solidFill>
                  <a:srgbClr val="141313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pic>
        <p:nvPicPr>
          <p:cNvPr id="847" name="Picture 3" descr=""/>
          <p:cNvPicPr/>
          <p:nvPr/>
        </p:nvPicPr>
        <p:blipFill>
          <a:blip r:embed="rId10"/>
          <a:stretch/>
        </p:blipFill>
        <p:spPr>
          <a:xfrm>
            <a:off x="181080" y="2743200"/>
            <a:ext cx="4303440" cy="19224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" descr=""/>
          <p:cNvPicPr/>
          <p:nvPr/>
        </p:nvPicPr>
        <p:blipFill>
          <a:blip r:embed="rId11"/>
          <a:stretch/>
        </p:blipFill>
        <p:spPr>
          <a:xfrm>
            <a:off x="28440" y="4603680"/>
            <a:ext cx="3961080" cy="20862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57358"/>
          <p:cNvSpPr/>
          <p:nvPr/>
        </p:nvSpPr>
        <p:spPr>
          <a:xfrm>
            <a:off x="7596360" y="96516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NPs, Molecules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850" name="TextBox 133"/>
          <p:cNvSpPr/>
          <p:nvPr/>
        </p:nvSpPr>
        <p:spPr>
          <a:xfrm>
            <a:off x="4241880" y="57070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41313"/>
                </a:solidFill>
                <a:latin typeface="Calibri"/>
              </a:rPr>
              <a:t>Cell-Based Devices</a:t>
            </a:r>
            <a:endParaRPr b="0" lang="en-US" sz="2400" spc="-1" strike="noStrike">
              <a:solidFill>
                <a:srgbClr val="14131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4T12:54:11Z</dcterms:created>
  <dc:creator>Sivashankar Krishnamoorthy</dc:creator>
  <dc:description/>
  <dc:language>en-US</dc:language>
  <cp:lastModifiedBy>Sivashankar Krishnamoorthy</cp:lastModifiedBy>
  <dcterms:modified xsi:type="dcterms:W3CDTF">2017-10-09T10:15:12Z</dcterms:modified>
  <cp:revision>67</cp:revision>
  <dc:subject/>
  <dc:title>Controlled Nanoscale Topography and Chemistry for Cell based Devices and Interfaces</dc:title>
</cp:coreProperties>
</file>